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explode.wav" ContentType="audio/x-wav"/>
  <Override PartName="/ppt/media/image11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jpeg" ContentType="image/jpeg"/>
  <Override PartName="/ppt/media/image10.wmf" ContentType="image/x-wmf"/>
  <Override PartName="/ppt/media/image31.jpeg" ContentType="image/jpeg"/>
  <Override PartName="/ppt/media/image2.png" ContentType="image/png"/>
  <Override PartName="/ppt/media/image7.jpeg" ContentType="image/jpeg"/>
  <Override PartName="/ppt/media/image9.png" ContentType="image/png"/>
  <Override PartName="/ppt/media/image26.wmf" ContentType="image/x-wmf"/>
  <Override PartName="/ppt/media/image3.wmf" ContentType="image/x-wmf"/>
  <Override PartName="/ppt/media/image27.wmf" ContentType="image/x-wmf"/>
  <Override PartName="/ppt/media/image29.wmf" ContentType="image/x-wmf"/>
  <Override PartName="/ppt/media/image30.wmf" ContentType="image/x-wmf"/>
  <Override PartName="/ppt/media/applause.wav" ContentType="audio/x-wav"/>
  <Override PartName="/ppt/media/image5.png" ContentType="image/png"/>
  <Override PartName="/ppt/media/image1.jpeg" ContentType="image/jpeg"/>
  <Override PartName="/ppt/media/chimes.wav" ContentType="audio/x-wav"/>
  <Override PartName="/ppt/media/image13.wmf" ContentType="image/x-wmf"/>
  <Override PartName="/ppt/media/image17.gif" ContentType="image/gif"/>
  <Override PartName="/ppt/media/image14.wmf" ContentType="image/x-wmf"/>
  <Override PartName="/ppt/media/image18.gif" ContentType="image/gif"/>
  <Override PartName="/ppt/media/image15.wmf" ContentType="image/x-wmf"/>
  <Override PartName="/ppt/media/image19.gif" ContentType="image/gif"/>
  <Override PartName="/ppt/media/image20.wmf" ContentType="image/x-wmf"/>
  <Override PartName="/ppt/media/image6.jpeg" ContentType="image/jpeg"/>
  <Override PartName="/ppt/media/type.wav" ContentType="audio/x-wav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DA7-29AE-4963-BCB2-5E0B9125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ADD-3121-4177-883A-C568752F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4C3-B2AF-4E82-978E-7DF50462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300-C811-4116-83B7-DC5816D5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680-E2DC-4D16-AE7D-76447386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BB3-4648-4DE2-A544-7CBE111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217-477B-4B68-8155-48F6BFEB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75F-53F6-4FDC-9726-2E631529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772-5A48-45C5-9AD9-83418050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1F2-5104-4E83-84F3-58BA6005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AF5-7DF4-4EE5-B87F-2BF74F8B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2D7-9B5F-4FBE-BB06-3F2E949D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5E24-D28A-49A4-97A6-9FA83C74F0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image" Target="../media/image15.wm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0420"/>
          <p:cNvGrpSpPr/>
          <p:nvPr/>
        </p:nvGrpSpPr>
        <p:grpSpPr>
          <a:xfrm>
            <a:off x="9199440" y="5300640"/>
            <a:ext cx="1468440" cy="1339560"/>
            <a:chOff x="9199440" y="5300640"/>
            <a:chExt cx="1468440" cy="1339560"/>
          </a:xfrm>
        </p:grpSpPr>
        <p:sp>
          <p:nvSpPr>
            <p:cNvPr id="42" name="椭圆 60421"/>
            <p:cNvSpPr/>
            <p:nvPr/>
          </p:nvSpPr>
          <p:spPr>
            <a:xfrm>
              <a:off x="9344880" y="5580720"/>
              <a:ext cx="1019520" cy="980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60422"/>
            <p:cNvSpPr/>
            <p:nvPr/>
          </p:nvSpPr>
          <p:spPr>
            <a:xfrm>
              <a:off x="9395640" y="5636520"/>
              <a:ext cx="918360" cy="86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组合 60423"/>
            <p:cNvGrpSpPr/>
            <p:nvPr/>
          </p:nvGrpSpPr>
          <p:grpSpPr>
            <a:xfrm>
              <a:off x="9199440" y="5300640"/>
              <a:ext cx="818280" cy="1217520"/>
              <a:chOff x="9199440" y="5300640"/>
              <a:chExt cx="818280" cy="1217520"/>
            </a:xfrm>
          </p:grpSpPr>
          <p:sp>
            <p:nvSpPr>
              <p:cNvPr id="45" name="任意多边形 60424"/>
              <p:cNvSpPr/>
              <p:nvPr/>
            </p:nvSpPr>
            <p:spPr>
              <a:xfrm>
                <a:off x="9311040" y="5303880"/>
                <a:ext cx="102600" cy="145800"/>
              </a:xfrm>
              <a:custGeom>
                <a:avLst/>
                <a:gdLst/>
                <a:ahLst/>
                <a:rect l="l" t="t" r="r" b="b"/>
                <a:pathLst>
                  <a:path w="188" h="319">
                    <a:moveTo>
                      <a:pt x="188" y="289"/>
                    </a:moveTo>
                    <a:lnTo>
                      <a:pt x="88" y="0"/>
                    </a:lnTo>
                    <a:lnTo>
                      <a:pt x="0" y="30"/>
                    </a:lnTo>
                    <a:lnTo>
                      <a:pt x="100" y="319"/>
                    </a:lnTo>
                    <a:lnTo>
                      <a:pt x="188" y="289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任意多边形 60425"/>
              <p:cNvSpPr/>
              <p:nvPr/>
            </p:nvSpPr>
            <p:spPr>
              <a:xfrm>
                <a:off x="9355680" y="5300640"/>
                <a:ext cx="61920" cy="136440"/>
              </a:xfrm>
              <a:custGeom>
                <a:avLst/>
                <a:gdLst/>
                <a:ahLst/>
                <a:rect l="l" t="t" r="r" b="b"/>
                <a:pathLst>
                  <a:path w="114" h="298">
                    <a:moveTo>
                      <a:pt x="10" y="14"/>
                    </a:moveTo>
                    <a:lnTo>
                      <a:pt x="0" y="9"/>
                    </a:lnTo>
                    <a:lnTo>
                      <a:pt x="100" y="298"/>
                    </a:lnTo>
                    <a:lnTo>
                      <a:pt x="114" y="293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14" y="5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任意多边形 60426"/>
              <p:cNvSpPr/>
              <p:nvPr/>
            </p:nvSpPr>
            <p:spPr>
              <a:xfrm>
                <a:off x="9308160" y="5300640"/>
                <a:ext cx="52920" cy="20160"/>
              </a:xfrm>
              <a:custGeom>
                <a:avLst/>
                <a:gdLst/>
                <a:ahLst/>
                <a:rect l="l" t="t" r="r" b="b"/>
                <a:pathLst>
                  <a:path w="97" h="44">
                    <a:moveTo>
                      <a:pt x="13" y="35"/>
                    </a:moveTo>
                    <a:lnTo>
                      <a:pt x="9" y="44"/>
                    </a:lnTo>
                    <a:lnTo>
                      <a:pt x="97" y="14"/>
                    </a:lnTo>
                    <a:lnTo>
                      <a:pt x="92" y="0"/>
                    </a:lnTo>
                    <a:lnTo>
                      <a:pt x="4" y="30"/>
                    </a:lnTo>
                    <a:lnTo>
                      <a:pt x="0" y="39"/>
                    </a:lnTo>
                    <a:lnTo>
                      <a:pt x="4" y="30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2" y="44"/>
                    </a:lnTo>
                    <a:lnTo>
                      <a:pt x="9" y="44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任意多边形 60427"/>
              <p:cNvSpPr/>
              <p:nvPr/>
            </p:nvSpPr>
            <p:spPr>
              <a:xfrm>
                <a:off x="9308160" y="5316480"/>
                <a:ext cx="61560" cy="136440"/>
              </a:xfrm>
              <a:custGeom>
                <a:avLst/>
                <a:gdLst/>
                <a:ahLst/>
                <a:rect l="l" t="t" r="r" b="b"/>
                <a:pathLst>
                  <a:path w="113" h="298">
                    <a:moveTo>
                      <a:pt x="103" y="284"/>
                    </a:moveTo>
                    <a:lnTo>
                      <a:pt x="113" y="288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99" y="293"/>
                    </a:lnTo>
                    <a:lnTo>
                      <a:pt x="108" y="298"/>
                    </a:lnTo>
                    <a:lnTo>
                      <a:pt x="99" y="293"/>
                    </a:lnTo>
                    <a:lnTo>
                      <a:pt x="103" y="298"/>
                    </a:lnTo>
                    <a:lnTo>
                      <a:pt x="108" y="298"/>
                    </a:lnTo>
                    <a:lnTo>
                      <a:pt x="113" y="295"/>
                    </a:lnTo>
                    <a:lnTo>
                      <a:pt x="113" y="288"/>
                    </a:lnTo>
                    <a:lnTo>
                      <a:pt x="103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任意多边形 60428"/>
              <p:cNvSpPr/>
              <p:nvPr/>
            </p:nvSpPr>
            <p:spPr>
              <a:xfrm>
                <a:off x="9364320" y="5432760"/>
                <a:ext cx="53640" cy="20160"/>
              </a:xfrm>
              <a:custGeom>
                <a:avLst/>
                <a:gdLst/>
                <a:ahLst/>
                <a:rect l="l" t="t" r="r" b="b"/>
                <a:pathLst>
                  <a:path w="98" h="44">
                    <a:moveTo>
                      <a:pt x="84" y="9"/>
                    </a:moveTo>
                    <a:lnTo>
                      <a:pt x="88" y="0"/>
                    </a:lnTo>
                    <a:lnTo>
                      <a:pt x="0" y="30"/>
                    </a:lnTo>
                    <a:lnTo>
                      <a:pt x="5" y="44"/>
                    </a:lnTo>
                    <a:lnTo>
                      <a:pt x="93" y="14"/>
                    </a:lnTo>
                    <a:lnTo>
                      <a:pt x="98" y="4"/>
                    </a:lnTo>
                    <a:lnTo>
                      <a:pt x="93" y="14"/>
                    </a:lnTo>
                    <a:lnTo>
                      <a:pt x="98" y="9"/>
                    </a:lnTo>
                    <a:lnTo>
                      <a:pt x="98" y="4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任意多边形 60429"/>
              <p:cNvSpPr/>
              <p:nvPr/>
            </p:nvSpPr>
            <p:spPr>
              <a:xfrm>
                <a:off x="9331560" y="5438160"/>
                <a:ext cx="194760" cy="218880"/>
              </a:xfrm>
              <a:custGeom>
                <a:avLst/>
                <a:gdLst/>
                <a:ahLst/>
                <a:rect l="l" t="t" r="r" b="b"/>
                <a:pathLst>
                  <a:path w="356" h="478">
                    <a:moveTo>
                      <a:pt x="356" y="404"/>
                    </a:moveTo>
                    <a:lnTo>
                      <a:pt x="220" y="0"/>
                    </a:lnTo>
                    <a:lnTo>
                      <a:pt x="0" y="74"/>
                    </a:lnTo>
                    <a:lnTo>
                      <a:pt x="139" y="478"/>
                    </a:lnTo>
                    <a:lnTo>
                      <a:pt x="356" y="4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60430"/>
              <p:cNvSpPr/>
              <p:nvPr/>
            </p:nvSpPr>
            <p:spPr>
              <a:xfrm>
                <a:off x="9492120" y="5545080"/>
                <a:ext cx="517680" cy="849960"/>
              </a:xfrm>
              <a:custGeom>
                <a:avLst/>
                <a:gdLst/>
                <a:ahLst/>
                <a:rect l="l" t="t" r="r" b="b"/>
                <a:pathLst>
                  <a:path w="947" h="1854">
                    <a:moveTo>
                      <a:pt x="11" y="0"/>
                    </a:moveTo>
                    <a:lnTo>
                      <a:pt x="32" y="30"/>
                    </a:lnTo>
                    <a:lnTo>
                      <a:pt x="53" y="60"/>
                    </a:lnTo>
                    <a:lnTo>
                      <a:pt x="74" y="87"/>
                    </a:lnTo>
                    <a:lnTo>
                      <a:pt x="92" y="115"/>
                    </a:lnTo>
                    <a:lnTo>
                      <a:pt x="108" y="140"/>
                    </a:lnTo>
                    <a:lnTo>
                      <a:pt x="127" y="166"/>
                    </a:lnTo>
                    <a:lnTo>
                      <a:pt x="141" y="187"/>
                    </a:lnTo>
                    <a:lnTo>
                      <a:pt x="155" y="207"/>
                    </a:lnTo>
                    <a:lnTo>
                      <a:pt x="168" y="228"/>
                    </a:lnTo>
                    <a:lnTo>
                      <a:pt x="187" y="254"/>
                    </a:lnTo>
                    <a:lnTo>
                      <a:pt x="205" y="281"/>
                    </a:lnTo>
                    <a:lnTo>
                      <a:pt x="226" y="314"/>
                    </a:lnTo>
                    <a:lnTo>
                      <a:pt x="247" y="344"/>
                    </a:lnTo>
                    <a:lnTo>
                      <a:pt x="268" y="376"/>
                    </a:lnTo>
                    <a:lnTo>
                      <a:pt x="286" y="404"/>
                    </a:lnTo>
                    <a:lnTo>
                      <a:pt x="302" y="429"/>
                    </a:lnTo>
                    <a:lnTo>
                      <a:pt x="328" y="473"/>
                    </a:lnTo>
                    <a:lnTo>
                      <a:pt x="365" y="533"/>
                    </a:lnTo>
                    <a:lnTo>
                      <a:pt x="409" y="607"/>
                    </a:lnTo>
                    <a:lnTo>
                      <a:pt x="455" y="685"/>
                    </a:lnTo>
                    <a:lnTo>
                      <a:pt x="499" y="764"/>
                    </a:lnTo>
                    <a:lnTo>
                      <a:pt x="540" y="838"/>
                    </a:lnTo>
                    <a:lnTo>
                      <a:pt x="575" y="900"/>
                    </a:lnTo>
                    <a:lnTo>
                      <a:pt x="598" y="944"/>
                    </a:lnTo>
                    <a:lnTo>
                      <a:pt x="617" y="981"/>
                    </a:lnTo>
                    <a:lnTo>
                      <a:pt x="640" y="1027"/>
                    </a:lnTo>
                    <a:lnTo>
                      <a:pt x="665" y="1080"/>
                    </a:lnTo>
                    <a:lnTo>
                      <a:pt x="693" y="1134"/>
                    </a:lnTo>
                    <a:lnTo>
                      <a:pt x="721" y="1189"/>
                    </a:lnTo>
                    <a:lnTo>
                      <a:pt x="746" y="1240"/>
                    </a:lnTo>
                    <a:lnTo>
                      <a:pt x="769" y="1286"/>
                    </a:lnTo>
                    <a:lnTo>
                      <a:pt x="788" y="1323"/>
                    </a:lnTo>
                    <a:lnTo>
                      <a:pt x="801" y="1353"/>
                    </a:lnTo>
                    <a:lnTo>
                      <a:pt x="818" y="1381"/>
                    </a:lnTo>
                    <a:lnTo>
                      <a:pt x="831" y="1406"/>
                    </a:lnTo>
                    <a:lnTo>
                      <a:pt x="843" y="1429"/>
                    </a:lnTo>
                    <a:lnTo>
                      <a:pt x="855" y="1452"/>
                    </a:lnTo>
                    <a:lnTo>
                      <a:pt x="866" y="1471"/>
                    </a:lnTo>
                    <a:lnTo>
                      <a:pt x="873" y="1489"/>
                    </a:lnTo>
                    <a:lnTo>
                      <a:pt x="880" y="1503"/>
                    </a:lnTo>
                    <a:lnTo>
                      <a:pt x="892" y="1542"/>
                    </a:lnTo>
                    <a:lnTo>
                      <a:pt x="905" y="1593"/>
                    </a:lnTo>
                    <a:lnTo>
                      <a:pt x="922" y="1646"/>
                    </a:lnTo>
                    <a:lnTo>
                      <a:pt x="938" y="1690"/>
                    </a:lnTo>
                    <a:lnTo>
                      <a:pt x="945" y="1729"/>
                    </a:lnTo>
                    <a:lnTo>
                      <a:pt x="947" y="1771"/>
                    </a:lnTo>
                    <a:lnTo>
                      <a:pt x="945" y="1815"/>
                    </a:lnTo>
                    <a:lnTo>
                      <a:pt x="942" y="1854"/>
                    </a:lnTo>
                    <a:lnTo>
                      <a:pt x="933" y="1824"/>
                    </a:lnTo>
                    <a:lnTo>
                      <a:pt x="922" y="1799"/>
                    </a:lnTo>
                    <a:lnTo>
                      <a:pt x="912" y="1778"/>
                    </a:lnTo>
                    <a:lnTo>
                      <a:pt x="901" y="1755"/>
                    </a:lnTo>
                    <a:lnTo>
                      <a:pt x="892" y="1734"/>
                    </a:lnTo>
                    <a:lnTo>
                      <a:pt x="880" y="1713"/>
                    </a:lnTo>
                    <a:lnTo>
                      <a:pt x="871" y="1690"/>
                    </a:lnTo>
                    <a:lnTo>
                      <a:pt x="859" y="1662"/>
                    </a:lnTo>
                    <a:lnTo>
                      <a:pt x="850" y="1635"/>
                    </a:lnTo>
                    <a:lnTo>
                      <a:pt x="838" y="1605"/>
                    </a:lnTo>
                    <a:lnTo>
                      <a:pt x="825" y="1577"/>
                    </a:lnTo>
                    <a:lnTo>
                      <a:pt x="813" y="1547"/>
                    </a:lnTo>
                    <a:lnTo>
                      <a:pt x="797" y="1517"/>
                    </a:lnTo>
                    <a:lnTo>
                      <a:pt x="783" y="1489"/>
                    </a:lnTo>
                    <a:lnTo>
                      <a:pt x="767" y="1459"/>
                    </a:lnTo>
                    <a:lnTo>
                      <a:pt x="751" y="1431"/>
                    </a:lnTo>
                    <a:lnTo>
                      <a:pt x="732" y="1397"/>
                    </a:lnTo>
                    <a:lnTo>
                      <a:pt x="709" y="1353"/>
                    </a:lnTo>
                    <a:lnTo>
                      <a:pt x="681" y="1302"/>
                    </a:lnTo>
                    <a:lnTo>
                      <a:pt x="654" y="1247"/>
                    </a:lnTo>
                    <a:lnTo>
                      <a:pt x="626" y="1194"/>
                    </a:lnTo>
                    <a:lnTo>
                      <a:pt x="598" y="1140"/>
                    </a:lnTo>
                    <a:lnTo>
                      <a:pt x="573" y="1097"/>
                    </a:lnTo>
                    <a:lnTo>
                      <a:pt x="552" y="1060"/>
                    </a:lnTo>
                    <a:lnTo>
                      <a:pt x="531" y="1025"/>
                    </a:lnTo>
                    <a:lnTo>
                      <a:pt x="506" y="983"/>
                    </a:lnTo>
                    <a:lnTo>
                      <a:pt x="478" y="937"/>
                    </a:lnTo>
                    <a:lnTo>
                      <a:pt x="448" y="889"/>
                    </a:lnTo>
                    <a:lnTo>
                      <a:pt x="420" y="840"/>
                    </a:lnTo>
                    <a:lnTo>
                      <a:pt x="393" y="792"/>
                    </a:lnTo>
                    <a:lnTo>
                      <a:pt x="367" y="750"/>
                    </a:lnTo>
                    <a:lnTo>
                      <a:pt x="344" y="713"/>
                    </a:lnTo>
                    <a:lnTo>
                      <a:pt x="321" y="676"/>
                    </a:lnTo>
                    <a:lnTo>
                      <a:pt x="293" y="635"/>
                    </a:lnTo>
                    <a:lnTo>
                      <a:pt x="263" y="586"/>
                    </a:lnTo>
                    <a:lnTo>
                      <a:pt x="231" y="538"/>
                    </a:lnTo>
                    <a:lnTo>
                      <a:pt x="198" y="491"/>
                    </a:lnTo>
                    <a:lnTo>
                      <a:pt x="171" y="448"/>
                    </a:lnTo>
                    <a:lnTo>
                      <a:pt x="148" y="411"/>
                    </a:lnTo>
                    <a:lnTo>
                      <a:pt x="129" y="385"/>
                    </a:lnTo>
                    <a:lnTo>
                      <a:pt x="115" y="364"/>
                    </a:lnTo>
                    <a:lnTo>
                      <a:pt x="104" y="348"/>
                    </a:lnTo>
                    <a:lnTo>
                      <a:pt x="95" y="330"/>
                    </a:lnTo>
                    <a:lnTo>
                      <a:pt x="85" y="316"/>
                    </a:lnTo>
                    <a:lnTo>
                      <a:pt x="74" y="302"/>
                    </a:lnTo>
                    <a:lnTo>
                      <a:pt x="65" y="288"/>
                    </a:lnTo>
                    <a:lnTo>
                      <a:pt x="55" y="274"/>
                    </a:lnTo>
                    <a:lnTo>
                      <a:pt x="46" y="263"/>
                    </a:lnTo>
                    <a:lnTo>
                      <a:pt x="25" y="237"/>
                    </a:lnTo>
                    <a:lnTo>
                      <a:pt x="11" y="217"/>
                    </a:lnTo>
                    <a:lnTo>
                      <a:pt x="2" y="203"/>
                    </a:lnTo>
                    <a:lnTo>
                      <a:pt x="0" y="198"/>
                    </a:lnTo>
                    <a:lnTo>
                      <a:pt x="2" y="136"/>
                    </a:lnTo>
                    <a:lnTo>
                      <a:pt x="7" y="71"/>
                    </a:lnTo>
                    <a:lnTo>
                      <a:pt x="9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60431"/>
              <p:cNvSpPr/>
              <p:nvPr/>
            </p:nvSpPr>
            <p:spPr>
              <a:xfrm>
                <a:off x="9383400" y="5583600"/>
                <a:ext cx="212040" cy="934560"/>
              </a:xfrm>
              <a:custGeom>
                <a:avLst/>
                <a:gdLst/>
                <a:ahLst/>
                <a:rect l="l" t="t" r="r" b="b"/>
                <a:pathLst>
                  <a:path w="388" h="2039">
                    <a:moveTo>
                      <a:pt x="0" y="0"/>
                    </a:moveTo>
                    <a:lnTo>
                      <a:pt x="5" y="74"/>
                    </a:lnTo>
                    <a:lnTo>
                      <a:pt x="7" y="141"/>
                    </a:lnTo>
                    <a:lnTo>
                      <a:pt x="12" y="201"/>
                    </a:lnTo>
                    <a:lnTo>
                      <a:pt x="14" y="251"/>
                    </a:lnTo>
                    <a:lnTo>
                      <a:pt x="16" y="307"/>
                    </a:lnTo>
                    <a:lnTo>
                      <a:pt x="21" y="378"/>
                    </a:lnTo>
                    <a:lnTo>
                      <a:pt x="26" y="455"/>
                    </a:lnTo>
                    <a:lnTo>
                      <a:pt x="30" y="519"/>
                    </a:lnTo>
                    <a:lnTo>
                      <a:pt x="35" y="570"/>
                    </a:lnTo>
                    <a:lnTo>
                      <a:pt x="44" y="639"/>
                    </a:lnTo>
                    <a:lnTo>
                      <a:pt x="53" y="723"/>
                    </a:lnTo>
                    <a:lnTo>
                      <a:pt x="65" y="813"/>
                    </a:lnTo>
                    <a:lnTo>
                      <a:pt x="76" y="905"/>
                    </a:lnTo>
                    <a:lnTo>
                      <a:pt x="88" y="988"/>
                    </a:lnTo>
                    <a:lnTo>
                      <a:pt x="99" y="1057"/>
                    </a:lnTo>
                    <a:lnTo>
                      <a:pt x="109" y="1106"/>
                    </a:lnTo>
                    <a:lnTo>
                      <a:pt x="118" y="1148"/>
                    </a:lnTo>
                    <a:lnTo>
                      <a:pt x="127" y="1198"/>
                    </a:lnTo>
                    <a:lnTo>
                      <a:pt x="139" y="1256"/>
                    </a:lnTo>
                    <a:lnTo>
                      <a:pt x="150" y="1316"/>
                    </a:lnTo>
                    <a:lnTo>
                      <a:pt x="162" y="1376"/>
                    </a:lnTo>
                    <a:lnTo>
                      <a:pt x="171" y="1432"/>
                    </a:lnTo>
                    <a:lnTo>
                      <a:pt x="183" y="1482"/>
                    </a:lnTo>
                    <a:lnTo>
                      <a:pt x="190" y="1522"/>
                    </a:lnTo>
                    <a:lnTo>
                      <a:pt x="201" y="1586"/>
                    </a:lnTo>
                    <a:lnTo>
                      <a:pt x="210" y="1642"/>
                    </a:lnTo>
                    <a:lnTo>
                      <a:pt x="217" y="1688"/>
                    </a:lnTo>
                    <a:lnTo>
                      <a:pt x="227" y="1723"/>
                    </a:lnTo>
                    <a:lnTo>
                      <a:pt x="233" y="1739"/>
                    </a:lnTo>
                    <a:lnTo>
                      <a:pt x="240" y="1760"/>
                    </a:lnTo>
                    <a:lnTo>
                      <a:pt x="250" y="1783"/>
                    </a:lnTo>
                    <a:lnTo>
                      <a:pt x="261" y="1810"/>
                    </a:lnTo>
                    <a:lnTo>
                      <a:pt x="270" y="1836"/>
                    </a:lnTo>
                    <a:lnTo>
                      <a:pt x="280" y="1861"/>
                    </a:lnTo>
                    <a:lnTo>
                      <a:pt x="289" y="1884"/>
                    </a:lnTo>
                    <a:lnTo>
                      <a:pt x="296" y="1905"/>
                    </a:lnTo>
                    <a:lnTo>
                      <a:pt x="303" y="1924"/>
                    </a:lnTo>
                    <a:lnTo>
                      <a:pt x="312" y="1942"/>
                    </a:lnTo>
                    <a:lnTo>
                      <a:pt x="324" y="1960"/>
                    </a:lnTo>
                    <a:lnTo>
                      <a:pt x="337" y="1977"/>
                    </a:lnTo>
                    <a:lnTo>
                      <a:pt x="349" y="1993"/>
                    </a:lnTo>
                    <a:lnTo>
                      <a:pt x="363" y="2009"/>
                    </a:lnTo>
                    <a:lnTo>
                      <a:pt x="377" y="2025"/>
                    </a:lnTo>
                    <a:lnTo>
                      <a:pt x="388" y="2039"/>
                    </a:lnTo>
                    <a:lnTo>
                      <a:pt x="372" y="1984"/>
                    </a:lnTo>
                    <a:lnTo>
                      <a:pt x="363" y="1935"/>
                    </a:lnTo>
                    <a:lnTo>
                      <a:pt x="354" y="1889"/>
                    </a:lnTo>
                    <a:lnTo>
                      <a:pt x="340" y="1836"/>
                    </a:lnTo>
                    <a:lnTo>
                      <a:pt x="321" y="1778"/>
                    </a:lnTo>
                    <a:lnTo>
                      <a:pt x="305" y="1716"/>
                    </a:lnTo>
                    <a:lnTo>
                      <a:pt x="294" y="1651"/>
                    </a:lnTo>
                    <a:lnTo>
                      <a:pt x="284" y="1586"/>
                    </a:lnTo>
                    <a:lnTo>
                      <a:pt x="270" y="1499"/>
                    </a:lnTo>
                    <a:lnTo>
                      <a:pt x="250" y="1383"/>
                    </a:lnTo>
                    <a:lnTo>
                      <a:pt x="229" y="1265"/>
                    </a:lnTo>
                    <a:lnTo>
                      <a:pt x="217" y="1173"/>
                    </a:lnTo>
                    <a:lnTo>
                      <a:pt x="208" y="1085"/>
                    </a:lnTo>
                    <a:lnTo>
                      <a:pt x="194" y="974"/>
                    </a:lnTo>
                    <a:lnTo>
                      <a:pt x="180" y="861"/>
                    </a:lnTo>
                    <a:lnTo>
                      <a:pt x="171" y="769"/>
                    </a:lnTo>
                    <a:lnTo>
                      <a:pt x="164" y="674"/>
                    </a:lnTo>
                    <a:lnTo>
                      <a:pt x="155" y="561"/>
                    </a:lnTo>
                    <a:lnTo>
                      <a:pt x="146" y="452"/>
                    </a:lnTo>
                    <a:lnTo>
                      <a:pt x="141" y="378"/>
                    </a:lnTo>
                    <a:lnTo>
                      <a:pt x="136" y="332"/>
                    </a:lnTo>
                    <a:lnTo>
                      <a:pt x="134" y="295"/>
                    </a:lnTo>
                    <a:lnTo>
                      <a:pt x="132" y="261"/>
                    </a:lnTo>
                    <a:lnTo>
                      <a:pt x="134" y="228"/>
                    </a:lnTo>
                    <a:lnTo>
                      <a:pt x="134" y="198"/>
                    </a:lnTo>
                    <a:lnTo>
                      <a:pt x="134" y="173"/>
                    </a:lnTo>
                    <a:lnTo>
                      <a:pt x="132" y="157"/>
                    </a:lnTo>
                    <a:lnTo>
                      <a:pt x="132" y="150"/>
                    </a:lnTo>
                    <a:lnTo>
                      <a:pt x="113" y="127"/>
                    </a:lnTo>
                    <a:lnTo>
                      <a:pt x="93" y="101"/>
                    </a:lnTo>
                    <a:lnTo>
                      <a:pt x="72" y="76"/>
                    </a:lnTo>
                    <a:lnTo>
                      <a:pt x="49" y="53"/>
                    </a:lnTo>
                    <a:lnTo>
                      <a:pt x="30" y="32"/>
                    </a:lnTo>
                    <a:lnTo>
                      <a:pt x="14" y="16"/>
                    </a:lnTo>
                    <a:lnTo>
                      <a:pt x="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60432"/>
              <p:cNvSpPr/>
              <p:nvPr/>
            </p:nvSpPr>
            <p:spPr>
              <a:xfrm>
                <a:off x="9199440" y="5620680"/>
                <a:ext cx="589680" cy="186120"/>
              </a:xfrm>
              <a:custGeom>
                <a:avLst/>
                <a:gdLst/>
                <a:ahLst/>
                <a:rect l="l" t="t" r="r" b="b"/>
                <a:pathLst>
                  <a:path w="1079" h="406">
                    <a:moveTo>
                      <a:pt x="1079" y="43"/>
                    </a:moveTo>
                    <a:lnTo>
                      <a:pt x="1063" y="0"/>
                    </a:lnTo>
                    <a:lnTo>
                      <a:pt x="0" y="362"/>
                    </a:lnTo>
                    <a:lnTo>
                      <a:pt x="16" y="406"/>
                    </a:lnTo>
                    <a:lnTo>
                      <a:pt x="1079" y="43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任意多边形 60433"/>
              <p:cNvSpPr/>
              <p:nvPr/>
            </p:nvSpPr>
            <p:spPr>
              <a:xfrm>
                <a:off x="9261000" y="5733720"/>
                <a:ext cx="90360" cy="66960"/>
              </a:xfrm>
              <a:custGeom>
                <a:avLst/>
                <a:gdLst/>
                <a:ahLst/>
                <a:rect l="l" t="t" r="r" b="b"/>
                <a:pathLst>
                  <a:path w="166" h="147">
                    <a:moveTo>
                      <a:pt x="166" y="104"/>
                    </a:moveTo>
                    <a:lnTo>
                      <a:pt x="129" y="0"/>
                    </a:lnTo>
                    <a:lnTo>
                      <a:pt x="0" y="44"/>
                    </a:lnTo>
                    <a:lnTo>
                      <a:pt x="35" y="147"/>
                    </a:lnTo>
                    <a:lnTo>
                      <a:pt x="166" y="1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任意多边形 60434"/>
              <p:cNvSpPr/>
              <p:nvPr/>
            </p:nvSpPr>
            <p:spPr>
              <a:xfrm>
                <a:off x="9328320" y="5730480"/>
                <a:ext cx="27000" cy="518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9" y="14"/>
                    </a:moveTo>
                    <a:lnTo>
                      <a:pt x="0" y="9"/>
                    </a:lnTo>
                    <a:lnTo>
                      <a:pt x="36" y="113"/>
                    </a:lnTo>
                    <a:lnTo>
                      <a:pt x="50" y="108"/>
                    </a:lnTo>
                    <a:lnTo>
                      <a:pt x="13" y="4"/>
                    </a:lnTo>
                    <a:lnTo>
                      <a:pt x="4" y="0"/>
                    </a:lnTo>
                    <a:lnTo>
                      <a:pt x="13" y="4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任意多边形 60435"/>
              <p:cNvSpPr/>
              <p:nvPr/>
            </p:nvSpPr>
            <p:spPr>
              <a:xfrm>
                <a:off x="9257040" y="5730480"/>
                <a:ext cx="75960" cy="25920"/>
              </a:xfrm>
              <a:custGeom>
                <a:avLst/>
                <a:gdLst/>
                <a:ahLst/>
                <a:rect l="l" t="t" r="r" b="b"/>
                <a:pathLst>
                  <a:path w="139" h="57">
                    <a:moveTo>
                      <a:pt x="14" y="48"/>
                    </a:moveTo>
                    <a:lnTo>
                      <a:pt x="9" y="57"/>
                    </a:lnTo>
                    <a:lnTo>
                      <a:pt x="139" y="14"/>
                    </a:lnTo>
                    <a:lnTo>
                      <a:pt x="134" y="0"/>
                    </a:lnTo>
                    <a:lnTo>
                      <a:pt x="5" y="44"/>
                    </a:lnTo>
                    <a:lnTo>
                      <a:pt x="0" y="53"/>
                    </a:lnTo>
                    <a:lnTo>
                      <a:pt x="5" y="44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2" y="57"/>
                    </a:lnTo>
                    <a:lnTo>
                      <a:pt x="9" y="57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任意多边形 60436"/>
              <p:cNvSpPr/>
              <p:nvPr/>
            </p:nvSpPr>
            <p:spPr>
              <a:xfrm>
                <a:off x="9257040" y="5752440"/>
                <a:ext cx="26280" cy="5184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39" y="100"/>
                    </a:moveTo>
                    <a:lnTo>
                      <a:pt x="49" y="104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35" y="109"/>
                    </a:lnTo>
                    <a:lnTo>
                      <a:pt x="44" y="113"/>
                    </a:lnTo>
                    <a:lnTo>
                      <a:pt x="35" y="109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49" y="111"/>
                    </a:lnTo>
                    <a:lnTo>
                      <a:pt x="49" y="104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任意多边形 60437"/>
              <p:cNvSpPr/>
              <p:nvPr/>
            </p:nvSpPr>
            <p:spPr>
              <a:xfrm>
                <a:off x="9278640" y="5778000"/>
                <a:ext cx="77040" cy="25920"/>
              </a:xfrm>
              <a:custGeom>
                <a:avLst/>
                <a:gdLst/>
                <a:ahLst/>
                <a:rect l="l" t="t" r="r" b="b"/>
                <a:pathLst>
                  <a:path w="141" h="57">
                    <a:moveTo>
                      <a:pt x="127" y="9"/>
                    </a:moveTo>
                    <a:lnTo>
                      <a:pt x="132" y="0"/>
                    </a:lnTo>
                    <a:lnTo>
                      <a:pt x="0" y="44"/>
                    </a:lnTo>
                    <a:lnTo>
                      <a:pt x="5" y="57"/>
                    </a:lnTo>
                    <a:lnTo>
                      <a:pt x="137" y="14"/>
                    </a:lnTo>
                    <a:lnTo>
                      <a:pt x="141" y="4"/>
                    </a:lnTo>
                    <a:lnTo>
                      <a:pt x="137" y="14"/>
                    </a:lnTo>
                    <a:lnTo>
                      <a:pt x="141" y="9"/>
                    </a:lnTo>
                    <a:lnTo>
                      <a:pt x="141" y="4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任意多边形 60438"/>
              <p:cNvSpPr/>
              <p:nvPr/>
            </p:nvSpPr>
            <p:spPr>
              <a:xfrm>
                <a:off x="9648360" y="5623200"/>
                <a:ext cx="91080" cy="67680"/>
              </a:xfrm>
              <a:custGeom>
                <a:avLst/>
                <a:gdLst/>
                <a:ahLst/>
                <a:rect l="l" t="t" r="r" b="b"/>
                <a:pathLst>
                  <a:path w="167" h="148">
                    <a:moveTo>
                      <a:pt x="167" y="104"/>
                    </a:moveTo>
                    <a:lnTo>
                      <a:pt x="132" y="0"/>
                    </a:lnTo>
                    <a:lnTo>
                      <a:pt x="0" y="44"/>
                    </a:lnTo>
                    <a:lnTo>
                      <a:pt x="35" y="148"/>
                    </a:lnTo>
                    <a:lnTo>
                      <a:pt x="167" y="1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任意多边形 60439"/>
              <p:cNvSpPr/>
              <p:nvPr/>
            </p:nvSpPr>
            <p:spPr>
              <a:xfrm>
                <a:off x="9717120" y="562068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9" y="13"/>
                    </a:moveTo>
                    <a:lnTo>
                      <a:pt x="0" y="9"/>
                    </a:lnTo>
                    <a:lnTo>
                      <a:pt x="35" y="113"/>
                    </a:lnTo>
                    <a:lnTo>
                      <a:pt x="49" y="108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14" y="4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任意多边形 60440"/>
              <p:cNvSpPr/>
              <p:nvPr/>
            </p:nvSpPr>
            <p:spPr>
              <a:xfrm>
                <a:off x="9645120" y="5620680"/>
                <a:ext cx="76680" cy="25920"/>
              </a:xfrm>
              <a:custGeom>
                <a:avLst/>
                <a:gdLst/>
                <a:ahLst/>
                <a:rect l="l" t="t" r="r" b="b"/>
                <a:pathLst>
                  <a:path w="141" h="57">
                    <a:moveTo>
                      <a:pt x="14" y="48"/>
                    </a:moveTo>
                    <a:lnTo>
                      <a:pt x="10" y="57"/>
                    </a:lnTo>
                    <a:lnTo>
                      <a:pt x="141" y="13"/>
                    </a:lnTo>
                    <a:lnTo>
                      <a:pt x="137" y="0"/>
                    </a:lnTo>
                    <a:lnTo>
                      <a:pt x="5" y="43"/>
                    </a:lnTo>
                    <a:lnTo>
                      <a:pt x="0" y="53"/>
                    </a:lnTo>
                    <a:lnTo>
                      <a:pt x="5" y="43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3" y="57"/>
                    </a:lnTo>
                    <a:lnTo>
                      <a:pt x="10" y="57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任意多边形 60441"/>
              <p:cNvSpPr/>
              <p:nvPr/>
            </p:nvSpPr>
            <p:spPr>
              <a:xfrm>
                <a:off x="9645120" y="5642640"/>
                <a:ext cx="26280" cy="5148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40" y="99"/>
                    </a:moveTo>
                    <a:lnTo>
                      <a:pt x="49" y="104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35" y="109"/>
                    </a:lnTo>
                    <a:lnTo>
                      <a:pt x="44" y="113"/>
                    </a:lnTo>
                    <a:lnTo>
                      <a:pt x="35" y="109"/>
                    </a:lnTo>
                    <a:lnTo>
                      <a:pt x="40" y="113"/>
                    </a:lnTo>
                    <a:lnTo>
                      <a:pt x="44" y="113"/>
                    </a:lnTo>
                    <a:lnTo>
                      <a:pt x="49" y="111"/>
                    </a:lnTo>
                    <a:lnTo>
                      <a:pt x="49" y="104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任意多边形 60442"/>
              <p:cNvSpPr/>
              <p:nvPr/>
            </p:nvSpPr>
            <p:spPr>
              <a:xfrm>
                <a:off x="9666720" y="5667840"/>
                <a:ext cx="77040" cy="26280"/>
              </a:xfrm>
              <a:custGeom>
                <a:avLst/>
                <a:gdLst/>
                <a:ahLst/>
                <a:rect l="l" t="t" r="r" b="b"/>
                <a:pathLst>
                  <a:path w="141" h="58">
                    <a:moveTo>
                      <a:pt x="127" y="10"/>
                    </a:moveTo>
                    <a:lnTo>
                      <a:pt x="131" y="0"/>
                    </a:lnTo>
                    <a:lnTo>
                      <a:pt x="0" y="44"/>
                    </a:lnTo>
                    <a:lnTo>
                      <a:pt x="4" y="58"/>
                    </a:lnTo>
                    <a:lnTo>
                      <a:pt x="136" y="14"/>
                    </a:lnTo>
                    <a:lnTo>
                      <a:pt x="141" y="5"/>
                    </a:lnTo>
                    <a:lnTo>
                      <a:pt x="136" y="14"/>
                    </a:lnTo>
                    <a:lnTo>
                      <a:pt x="141" y="10"/>
                    </a:lnTo>
                    <a:lnTo>
                      <a:pt x="141" y="5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任意多边形 60443"/>
              <p:cNvSpPr/>
              <p:nvPr/>
            </p:nvSpPr>
            <p:spPr>
              <a:xfrm>
                <a:off x="9470880" y="5661720"/>
                <a:ext cx="54360" cy="92880"/>
              </a:xfrm>
              <a:custGeom>
                <a:avLst/>
                <a:gdLst/>
                <a:ahLst/>
                <a:rect l="l" t="t" r="r" b="b"/>
                <a:pathLst>
                  <a:path w="99" h="203">
                    <a:moveTo>
                      <a:pt x="99" y="191"/>
                    </a:moveTo>
                    <a:lnTo>
                      <a:pt x="34" y="0"/>
                    </a:lnTo>
                    <a:lnTo>
                      <a:pt x="0" y="11"/>
                    </a:lnTo>
                    <a:lnTo>
                      <a:pt x="64" y="203"/>
                    </a:lnTo>
                    <a:lnTo>
                      <a:pt x="99" y="191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任意多边形 60444"/>
              <p:cNvSpPr/>
              <p:nvPr/>
            </p:nvSpPr>
            <p:spPr>
              <a:xfrm>
                <a:off x="9485640" y="5658840"/>
                <a:ext cx="42840" cy="91800"/>
              </a:xfrm>
              <a:custGeom>
                <a:avLst/>
                <a:gdLst/>
                <a:ahLst/>
                <a:rect l="l" t="t" r="r" b="b"/>
                <a:pathLst>
                  <a:path w="79" h="201">
                    <a:moveTo>
                      <a:pt x="10" y="14"/>
                    </a:moveTo>
                    <a:lnTo>
                      <a:pt x="0" y="9"/>
                    </a:lnTo>
                    <a:lnTo>
                      <a:pt x="65" y="201"/>
                    </a:lnTo>
                    <a:lnTo>
                      <a:pt x="79" y="196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14" y="4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任意多边形 60445"/>
              <p:cNvSpPr/>
              <p:nvPr/>
            </p:nvSpPr>
            <p:spPr>
              <a:xfrm>
                <a:off x="9467280" y="565884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13" y="16"/>
                    </a:moveTo>
                    <a:lnTo>
                      <a:pt x="9" y="25"/>
                    </a:lnTo>
                    <a:lnTo>
                      <a:pt x="44" y="14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0" y="20"/>
                    </a:lnTo>
                    <a:lnTo>
                      <a:pt x="4" y="11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9" y="25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任意多边形 60446"/>
              <p:cNvSpPr/>
              <p:nvPr/>
            </p:nvSpPr>
            <p:spPr>
              <a:xfrm>
                <a:off x="9467280" y="5665680"/>
                <a:ext cx="42480" cy="92160"/>
              </a:xfrm>
              <a:custGeom>
                <a:avLst/>
                <a:gdLst/>
                <a:ahLst/>
                <a:rect l="l" t="t" r="r" b="b"/>
                <a:pathLst>
                  <a:path w="78" h="201">
                    <a:moveTo>
                      <a:pt x="69" y="187"/>
                    </a:moveTo>
                    <a:lnTo>
                      <a:pt x="78" y="192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64" y="196"/>
                    </a:lnTo>
                    <a:lnTo>
                      <a:pt x="74" y="201"/>
                    </a:lnTo>
                    <a:lnTo>
                      <a:pt x="64" y="196"/>
                    </a:lnTo>
                    <a:lnTo>
                      <a:pt x="69" y="201"/>
                    </a:lnTo>
                    <a:lnTo>
                      <a:pt x="74" y="201"/>
                    </a:lnTo>
                    <a:lnTo>
                      <a:pt x="78" y="198"/>
                    </a:lnTo>
                    <a:lnTo>
                      <a:pt x="78" y="192"/>
                    </a:lnTo>
                    <a:lnTo>
                      <a:pt x="69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任意多边形 60447"/>
              <p:cNvSpPr/>
              <p:nvPr/>
            </p:nvSpPr>
            <p:spPr>
              <a:xfrm>
                <a:off x="9504720" y="5745960"/>
                <a:ext cx="23760" cy="1188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30" y="10"/>
                    </a:moveTo>
                    <a:lnTo>
                      <a:pt x="35" y="0"/>
                    </a:lnTo>
                    <a:lnTo>
                      <a:pt x="0" y="12"/>
                    </a:lnTo>
                    <a:lnTo>
                      <a:pt x="5" y="26"/>
                    </a:lnTo>
                    <a:lnTo>
                      <a:pt x="39" y="14"/>
                    </a:lnTo>
                    <a:lnTo>
                      <a:pt x="44" y="5"/>
                    </a:lnTo>
                    <a:lnTo>
                      <a:pt x="39" y="14"/>
                    </a:lnTo>
                    <a:lnTo>
                      <a:pt x="44" y="10"/>
                    </a:lnTo>
                    <a:lnTo>
                      <a:pt x="44" y="5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任意多边形 60448"/>
              <p:cNvSpPr/>
              <p:nvPr/>
            </p:nvSpPr>
            <p:spPr>
              <a:xfrm>
                <a:off x="9912600" y="6240960"/>
                <a:ext cx="101160" cy="8316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123" y="178"/>
                    </a:moveTo>
                    <a:lnTo>
                      <a:pt x="139" y="171"/>
                    </a:lnTo>
                    <a:lnTo>
                      <a:pt x="153" y="159"/>
                    </a:lnTo>
                    <a:lnTo>
                      <a:pt x="166" y="148"/>
                    </a:lnTo>
                    <a:lnTo>
                      <a:pt x="176" y="132"/>
                    </a:lnTo>
                    <a:lnTo>
                      <a:pt x="180" y="115"/>
                    </a:lnTo>
                    <a:lnTo>
                      <a:pt x="185" y="99"/>
                    </a:lnTo>
                    <a:lnTo>
                      <a:pt x="185" y="81"/>
                    </a:lnTo>
                    <a:lnTo>
                      <a:pt x="180" y="62"/>
                    </a:lnTo>
                    <a:lnTo>
                      <a:pt x="173" y="46"/>
                    </a:lnTo>
                    <a:lnTo>
                      <a:pt x="162" y="30"/>
                    </a:lnTo>
                    <a:lnTo>
                      <a:pt x="148" y="18"/>
                    </a:lnTo>
                    <a:lnTo>
                      <a:pt x="134" y="9"/>
                    </a:lnTo>
                    <a:lnTo>
                      <a:pt x="118" y="2"/>
                    </a:lnTo>
                    <a:lnTo>
                      <a:pt x="99" y="0"/>
                    </a:lnTo>
                    <a:lnTo>
                      <a:pt x="81" y="0"/>
                    </a:lnTo>
                    <a:lnTo>
                      <a:pt x="62" y="5"/>
                    </a:lnTo>
                    <a:lnTo>
                      <a:pt x="46" y="11"/>
                    </a:lnTo>
                    <a:lnTo>
                      <a:pt x="30" y="23"/>
                    </a:lnTo>
                    <a:lnTo>
                      <a:pt x="19" y="37"/>
                    </a:lnTo>
                    <a:lnTo>
                      <a:pt x="9" y="51"/>
                    </a:lnTo>
                    <a:lnTo>
                      <a:pt x="2" y="67"/>
                    </a:lnTo>
                    <a:lnTo>
                      <a:pt x="0" y="85"/>
                    </a:lnTo>
                    <a:lnTo>
                      <a:pt x="0" y="102"/>
                    </a:lnTo>
                    <a:lnTo>
                      <a:pt x="5" y="120"/>
                    </a:lnTo>
                    <a:lnTo>
                      <a:pt x="12" y="136"/>
                    </a:lnTo>
                    <a:lnTo>
                      <a:pt x="23" y="152"/>
                    </a:lnTo>
                    <a:lnTo>
                      <a:pt x="37" y="164"/>
                    </a:lnTo>
                    <a:lnTo>
                      <a:pt x="51" y="173"/>
                    </a:lnTo>
                    <a:lnTo>
                      <a:pt x="67" y="180"/>
                    </a:lnTo>
                    <a:lnTo>
                      <a:pt x="86" y="182"/>
                    </a:lnTo>
                    <a:lnTo>
                      <a:pt x="104" y="182"/>
                    </a:lnTo>
                    <a:lnTo>
                      <a:pt x="123" y="178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任意多边形 60449"/>
              <p:cNvSpPr/>
              <p:nvPr/>
            </p:nvSpPr>
            <p:spPr>
              <a:xfrm>
                <a:off x="9978480" y="6268320"/>
                <a:ext cx="39240" cy="57240"/>
              </a:xfrm>
              <a:custGeom>
                <a:avLst/>
                <a:gdLst/>
                <a:ahLst/>
                <a:rect l="l" t="t" r="r" b="b"/>
                <a:pathLst>
                  <a:path w="72" h="125">
                    <a:moveTo>
                      <a:pt x="53" y="5"/>
                    </a:moveTo>
                    <a:lnTo>
                      <a:pt x="53" y="5"/>
                    </a:lnTo>
                    <a:lnTo>
                      <a:pt x="58" y="21"/>
                    </a:lnTo>
                    <a:lnTo>
                      <a:pt x="58" y="39"/>
                    </a:lnTo>
                    <a:lnTo>
                      <a:pt x="53" y="53"/>
                    </a:lnTo>
                    <a:lnTo>
                      <a:pt x="49" y="69"/>
                    </a:lnTo>
                    <a:lnTo>
                      <a:pt x="39" y="83"/>
                    </a:lnTo>
                    <a:lnTo>
                      <a:pt x="28" y="92"/>
                    </a:lnTo>
                    <a:lnTo>
                      <a:pt x="14" y="104"/>
                    </a:lnTo>
                    <a:lnTo>
                      <a:pt x="0" y="111"/>
                    </a:lnTo>
                    <a:lnTo>
                      <a:pt x="5" y="125"/>
                    </a:lnTo>
                    <a:lnTo>
                      <a:pt x="23" y="118"/>
                    </a:lnTo>
                    <a:lnTo>
                      <a:pt x="37" y="106"/>
                    </a:lnTo>
                    <a:lnTo>
                      <a:pt x="53" y="92"/>
                    </a:lnTo>
                    <a:lnTo>
                      <a:pt x="63" y="74"/>
                    </a:lnTo>
                    <a:lnTo>
                      <a:pt x="67" y="58"/>
                    </a:lnTo>
                    <a:lnTo>
                      <a:pt x="72" y="39"/>
                    </a:lnTo>
                    <a:lnTo>
                      <a:pt x="72" y="2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5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任意多边形 60450"/>
              <p:cNvSpPr/>
              <p:nvPr/>
            </p:nvSpPr>
            <p:spPr>
              <a:xfrm>
                <a:off x="9945720" y="6237720"/>
                <a:ext cx="69120" cy="32760"/>
              </a:xfrm>
              <a:custGeom>
                <a:avLst/>
                <a:gdLst/>
                <a:ahLst/>
                <a:rect l="l" t="t" r="r" b="b"/>
                <a:pathLst>
                  <a:path w="127" h="72">
                    <a:moveTo>
                      <a:pt x="5" y="18"/>
                    </a:moveTo>
                    <a:lnTo>
                      <a:pt x="5" y="18"/>
                    </a:lnTo>
                    <a:lnTo>
                      <a:pt x="21" y="14"/>
                    </a:lnTo>
                    <a:lnTo>
                      <a:pt x="39" y="14"/>
                    </a:lnTo>
                    <a:lnTo>
                      <a:pt x="56" y="16"/>
                    </a:lnTo>
                    <a:lnTo>
                      <a:pt x="72" y="23"/>
                    </a:lnTo>
                    <a:lnTo>
                      <a:pt x="83" y="32"/>
                    </a:lnTo>
                    <a:lnTo>
                      <a:pt x="97" y="42"/>
                    </a:lnTo>
                    <a:lnTo>
                      <a:pt x="106" y="55"/>
                    </a:lnTo>
                    <a:lnTo>
                      <a:pt x="113" y="72"/>
                    </a:lnTo>
                    <a:lnTo>
                      <a:pt x="127" y="67"/>
                    </a:lnTo>
                    <a:lnTo>
                      <a:pt x="120" y="51"/>
                    </a:lnTo>
                    <a:lnTo>
                      <a:pt x="106" y="32"/>
                    </a:lnTo>
                    <a:lnTo>
                      <a:pt x="93" y="18"/>
                    </a:lnTo>
                    <a:lnTo>
                      <a:pt x="76" y="9"/>
                    </a:lnTo>
                    <a:lnTo>
                      <a:pt x="60" y="2"/>
                    </a:lnTo>
                    <a:lnTo>
                      <a:pt x="39" y="0"/>
                    </a:lnTo>
                    <a:lnTo>
                      <a:pt x="21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任意多边形 60451"/>
              <p:cNvSpPr/>
              <p:nvPr/>
            </p:nvSpPr>
            <p:spPr>
              <a:xfrm>
                <a:off x="9909000" y="6239880"/>
                <a:ext cx="38880" cy="5652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19" y="120"/>
                    </a:moveTo>
                    <a:lnTo>
                      <a:pt x="19" y="120"/>
                    </a:lnTo>
                    <a:lnTo>
                      <a:pt x="14" y="104"/>
                    </a:lnTo>
                    <a:lnTo>
                      <a:pt x="14" y="87"/>
                    </a:lnTo>
                    <a:lnTo>
                      <a:pt x="16" y="71"/>
                    </a:lnTo>
                    <a:lnTo>
                      <a:pt x="23" y="55"/>
                    </a:lnTo>
                    <a:lnTo>
                      <a:pt x="33" y="43"/>
                    </a:lnTo>
                    <a:lnTo>
                      <a:pt x="42" y="30"/>
                    </a:lnTo>
                    <a:lnTo>
                      <a:pt x="56" y="20"/>
                    </a:lnTo>
                    <a:lnTo>
                      <a:pt x="72" y="13"/>
                    </a:lnTo>
                    <a:lnTo>
                      <a:pt x="67" y="0"/>
                    </a:lnTo>
                    <a:lnTo>
                      <a:pt x="51" y="7"/>
                    </a:lnTo>
                    <a:lnTo>
                      <a:pt x="33" y="20"/>
                    </a:lnTo>
                    <a:lnTo>
                      <a:pt x="19" y="34"/>
                    </a:lnTo>
                    <a:lnTo>
                      <a:pt x="9" y="50"/>
                    </a:lnTo>
                    <a:lnTo>
                      <a:pt x="2" y="67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19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任意多边形 60452"/>
              <p:cNvSpPr/>
              <p:nvPr/>
            </p:nvSpPr>
            <p:spPr>
              <a:xfrm>
                <a:off x="9911520" y="6294960"/>
                <a:ext cx="69480" cy="32400"/>
              </a:xfrm>
              <a:custGeom>
                <a:avLst/>
                <a:gdLst/>
                <a:ahLst/>
                <a:rect l="l" t="t" r="r" b="b"/>
                <a:pathLst>
                  <a:path w="127" h="71">
                    <a:moveTo>
                      <a:pt x="122" y="53"/>
                    </a:moveTo>
                    <a:lnTo>
                      <a:pt x="122" y="53"/>
                    </a:lnTo>
                    <a:lnTo>
                      <a:pt x="106" y="57"/>
                    </a:lnTo>
                    <a:lnTo>
                      <a:pt x="88" y="57"/>
                    </a:lnTo>
                    <a:lnTo>
                      <a:pt x="71" y="55"/>
                    </a:lnTo>
                    <a:lnTo>
                      <a:pt x="55" y="48"/>
                    </a:lnTo>
                    <a:lnTo>
                      <a:pt x="44" y="39"/>
                    </a:lnTo>
                    <a:lnTo>
                      <a:pt x="30" y="30"/>
                    </a:lnTo>
                    <a:lnTo>
                      <a:pt x="21" y="16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7" y="20"/>
                    </a:lnTo>
                    <a:lnTo>
                      <a:pt x="21" y="39"/>
                    </a:lnTo>
                    <a:lnTo>
                      <a:pt x="34" y="53"/>
                    </a:lnTo>
                    <a:lnTo>
                      <a:pt x="51" y="62"/>
                    </a:lnTo>
                    <a:lnTo>
                      <a:pt x="67" y="69"/>
                    </a:lnTo>
                    <a:lnTo>
                      <a:pt x="88" y="71"/>
                    </a:lnTo>
                    <a:lnTo>
                      <a:pt x="106" y="71"/>
                    </a:lnTo>
                    <a:lnTo>
                      <a:pt x="127" y="67"/>
                    </a:lnTo>
                    <a:lnTo>
                      <a:pt x="127" y="67"/>
                    </a:lnTo>
                    <a:lnTo>
                      <a:pt x="122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任意多边形 60453"/>
            <p:cNvSpPr/>
            <p:nvPr/>
          </p:nvSpPr>
          <p:spPr>
            <a:xfrm>
              <a:off x="9214200" y="5756040"/>
              <a:ext cx="587160" cy="763200"/>
            </a:xfrm>
            <a:custGeom>
              <a:avLst/>
              <a:gdLst/>
              <a:ahLst/>
              <a:rect l="l" t="t" r="r" b="b"/>
              <a:pathLst>
                <a:path w="1877" h="2956">
                  <a:moveTo>
                    <a:pt x="1690" y="0"/>
                  </a:moveTo>
                  <a:lnTo>
                    <a:pt x="1688" y="979"/>
                  </a:lnTo>
                  <a:lnTo>
                    <a:pt x="1612" y="979"/>
                  </a:lnTo>
                  <a:lnTo>
                    <a:pt x="1602" y="910"/>
                  </a:lnTo>
                  <a:lnTo>
                    <a:pt x="1589" y="845"/>
                  </a:lnTo>
                  <a:lnTo>
                    <a:pt x="1575" y="783"/>
                  </a:lnTo>
                  <a:lnTo>
                    <a:pt x="1559" y="726"/>
                  </a:lnTo>
                  <a:lnTo>
                    <a:pt x="1542" y="671"/>
                  </a:lnTo>
                  <a:lnTo>
                    <a:pt x="1521" y="621"/>
                  </a:lnTo>
                  <a:lnTo>
                    <a:pt x="1500" y="573"/>
                  </a:lnTo>
                  <a:lnTo>
                    <a:pt x="1477" y="530"/>
                  </a:lnTo>
                  <a:lnTo>
                    <a:pt x="1465" y="510"/>
                  </a:lnTo>
                  <a:lnTo>
                    <a:pt x="1452" y="490"/>
                  </a:lnTo>
                  <a:lnTo>
                    <a:pt x="1438" y="470"/>
                  </a:lnTo>
                  <a:lnTo>
                    <a:pt x="1424" y="451"/>
                  </a:lnTo>
                  <a:lnTo>
                    <a:pt x="1409" y="432"/>
                  </a:lnTo>
                  <a:lnTo>
                    <a:pt x="1393" y="415"/>
                  </a:lnTo>
                  <a:lnTo>
                    <a:pt x="1376" y="398"/>
                  </a:lnTo>
                  <a:lnTo>
                    <a:pt x="1360" y="380"/>
                  </a:lnTo>
                  <a:lnTo>
                    <a:pt x="1341" y="365"/>
                  </a:lnTo>
                  <a:lnTo>
                    <a:pt x="1324" y="349"/>
                  </a:lnTo>
                  <a:lnTo>
                    <a:pt x="1304" y="333"/>
                  </a:lnTo>
                  <a:lnTo>
                    <a:pt x="1285" y="318"/>
                  </a:lnTo>
                  <a:lnTo>
                    <a:pt x="1265" y="304"/>
                  </a:lnTo>
                  <a:lnTo>
                    <a:pt x="1244" y="291"/>
                  </a:lnTo>
                  <a:lnTo>
                    <a:pt x="1222" y="278"/>
                  </a:lnTo>
                  <a:lnTo>
                    <a:pt x="1200" y="265"/>
                  </a:lnTo>
                  <a:lnTo>
                    <a:pt x="1177" y="254"/>
                  </a:lnTo>
                  <a:lnTo>
                    <a:pt x="1156" y="242"/>
                  </a:lnTo>
                  <a:lnTo>
                    <a:pt x="1133" y="232"/>
                  </a:lnTo>
                  <a:lnTo>
                    <a:pt x="1110" y="222"/>
                  </a:lnTo>
                  <a:lnTo>
                    <a:pt x="1087" y="213"/>
                  </a:lnTo>
                  <a:lnTo>
                    <a:pt x="1064" y="206"/>
                  </a:lnTo>
                  <a:lnTo>
                    <a:pt x="1042" y="199"/>
                  </a:lnTo>
                  <a:lnTo>
                    <a:pt x="1019" y="192"/>
                  </a:lnTo>
                  <a:lnTo>
                    <a:pt x="995" y="186"/>
                  </a:lnTo>
                  <a:lnTo>
                    <a:pt x="971" y="182"/>
                  </a:lnTo>
                  <a:lnTo>
                    <a:pt x="948" y="177"/>
                  </a:lnTo>
                  <a:lnTo>
                    <a:pt x="925" y="173"/>
                  </a:lnTo>
                  <a:lnTo>
                    <a:pt x="902" y="170"/>
                  </a:lnTo>
                  <a:lnTo>
                    <a:pt x="879" y="169"/>
                  </a:lnTo>
                  <a:lnTo>
                    <a:pt x="855" y="167"/>
                  </a:lnTo>
                  <a:lnTo>
                    <a:pt x="832" y="167"/>
                  </a:lnTo>
                  <a:lnTo>
                    <a:pt x="806" y="167"/>
                  </a:lnTo>
                  <a:lnTo>
                    <a:pt x="780" y="169"/>
                  </a:lnTo>
                  <a:lnTo>
                    <a:pt x="754" y="172"/>
                  </a:lnTo>
                  <a:lnTo>
                    <a:pt x="730" y="176"/>
                  </a:lnTo>
                  <a:lnTo>
                    <a:pt x="705" y="180"/>
                  </a:lnTo>
                  <a:lnTo>
                    <a:pt x="681" y="186"/>
                  </a:lnTo>
                  <a:lnTo>
                    <a:pt x="658" y="192"/>
                  </a:lnTo>
                  <a:lnTo>
                    <a:pt x="635" y="200"/>
                  </a:lnTo>
                  <a:lnTo>
                    <a:pt x="613" y="209"/>
                  </a:lnTo>
                  <a:lnTo>
                    <a:pt x="591" y="219"/>
                  </a:lnTo>
                  <a:lnTo>
                    <a:pt x="570" y="229"/>
                  </a:lnTo>
                  <a:lnTo>
                    <a:pt x="550" y="241"/>
                  </a:lnTo>
                  <a:lnTo>
                    <a:pt x="530" y="254"/>
                  </a:lnTo>
                  <a:lnTo>
                    <a:pt x="511" y="268"/>
                  </a:lnTo>
                  <a:lnTo>
                    <a:pt x="492" y="284"/>
                  </a:lnTo>
                  <a:lnTo>
                    <a:pt x="473" y="300"/>
                  </a:lnTo>
                  <a:lnTo>
                    <a:pt x="440" y="333"/>
                  </a:lnTo>
                  <a:lnTo>
                    <a:pt x="411" y="367"/>
                  </a:lnTo>
                  <a:lnTo>
                    <a:pt x="387" y="403"/>
                  </a:lnTo>
                  <a:lnTo>
                    <a:pt x="367" y="441"/>
                  </a:lnTo>
                  <a:lnTo>
                    <a:pt x="351" y="480"/>
                  </a:lnTo>
                  <a:lnTo>
                    <a:pt x="339" y="519"/>
                  </a:lnTo>
                  <a:lnTo>
                    <a:pt x="334" y="559"/>
                  </a:lnTo>
                  <a:lnTo>
                    <a:pt x="331" y="601"/>
                  </a:lnTo>
                  <a:lnTo>
                    <a:pt x="332" y="632"/>
                  </a:lnTo>
                  <a:lnTo>
                    <a:pt x="337" y="664"/>
                  </a:lnTo>
                  <a:lnTo>
                    <a:pt x="344" y="694"/>
                  </a:lnTo>
                  <a:lnTo>
                    <a:pt x="354" y="724"/>
                  </a:lnTo>
                  <a:lnTo>
                    <a:pt x="367" y="753"/>
                  </a:lnTo>
                  <a:lnTo>
                    <a:pt x="381" y="782"/>
                  </a:lnTo>
                  <a:lnTo>
                    <a:pt x="400" y="809"/>
                  </a:lnTo>
                  <a:lnTo>
                    <a:pt x="422" y="837"/>
                  </a:lnTo>
                  <a:lnTo>
                    <a:pt x="439" y="857"/>
                  </a:lnTo>
                  <a:lnTo>
                    <a:pt x="460" y="877"/>
                  </a:lnTo>
                  <a:lnTo>
                    <a:pt x="483" y="899"/>
                  </a:lnTo>
                  <a:lnTo>
                    <a:pt x="509" y="922"/>
                  </a:lnTo>
                  <a:lnTo>
                    <a:pt x="538" y="945"/>
                  </a:lnTo>
                  <a:lnTo>
                    <a:pt x="568" y="968"/>
                  </a:lnTo>
                  <a:lnTo>
                    <a:pt x="603" y="994"/>
                  </a:lnTo>
                  <a:lnTo>
                    <a:pt x="640" y="1020"/>
                  </a:lnTo>
                  <a:lnTo>
                    <a:pt x="679" y="1046"/>
                  </a:lnTo>
                  <a:lnTo>
                    <a:pt x="722" y="1073"/>
                  </a:lnTo>
                  <a:lnTo>
                    <a:pt x="767" y="1102"/>
                  </a:lnTo>
                  <a:lnTo>
                    <a:pt x="815" y="1130"/>
                  </a:lnTo>
                  <a:lnTo>
                    <a:pt x="865" y="1159"/>
                  </a:lnTo>
                  <a:lnTo>
                    <a:pt x="918" y="1191"/>
                  </a:lnTo>
                  <a:lnTo>
                    <a:pt x="974" y="1223"/>
                  </a:lnTo>
                  <a:lnTo>
                    <a:pt x="1033" y="1254"/>
                  </a:lnTo>
                  <a:lnTo>
                    <a:pt x="1082" y="1280"/>
                  </a:lnTo>
                  <a:lnTo>
                    <a:pt x="1128" y="1306"/>
                  </a:lnTo>
                  <a:lnTo>
                    <a:pt x="1173" y="1331"/>
                  </a:lnTo>
                  <a:lnTo>
                    <a:pt x="1216" y="1354"/>
                  </a:lnTo>
                  <a:lnTo>
                    <a:pt x="1257" y="1378"/>
                  </a:lnTo>
                  <a:lnTo>
                    <a:pt x="1295" y="1400"/>
                  </a:lnTo>
                  <a:lnTo>
                    <a:pt x="1333" y="1421"/>
                  </a:lnTo>
                  <a:lnTo>
                    <a:pt x="1367" y="1443"/>
                  </a:lnTo>
                  <a:lnTo>
                    <a:pt x="1401" y="1463"/>
                  </a:lnTo>
                  <a:lnTo>
                    <a:pt x="1431" y="1482"/>
                  </a:lnTo>
                  <a:lnTo>
                    <a:pt x="1460" y="1500"/>
                  </a:lnTo>
                  <a:lnTo>
                    <a:pt x="1487" y="1518"/>
                  </a:lnTo>
                  <a:lnTo>
                    <a:pt x="1511" y="1535"/>
                  </a:lnTo>
                  <a:lnTo>
                    <a:pt x="1534" y="1551"/>
                  </a:lnTo>
                  <a:lnTo>
                    <a:pt x="1556" y="1567"/>
                  </a:lnTo>
                  <a:lnTo>
                    <a:pt x="1575" y="1581"/>
                  </a:lnTo>
                  <a:lnTo>
                    <a:pt x="1611" y="1610"/>
                  </a:lnTo>
                  <a:lnTo>
                    <a:pt x="1644" y="1640"/>
                  </a:lnTo>
                  <a:lnTo>
                    <a:pt x="1675" y="1672"/>
                  </a:lnTo>
                  <a:lnTo>
                    <a:pt x="1704" y="1705"/>
                  </a:lnTo>
                  <a:lnTo>
                    <a:pt x="1732" y="1739"/>
                  </a:lnTo>
                  <a:lnTo>
                    <a:pt x="1756" y="1774"/>
                  </a:lnTo>
                  <a:lnTo>
                    <a:pt x="1779" y="1811"/>
                  </a:lnTo>
                  <a:lnTo>
                    <a:pt x="1799" y="1849"/>
                  </a:lnTo>
                  <a:lnTo>
                    <a:pt x="1818" y="1888"/>
                  </a:lnTo>
                  <a:lnTo>
                    <a:pt x="1834" y="1928"/>
                  </a:lnTo>
                  <a:lnTo>
                    <a:pt x="1847" y="1967"/>
                  </a:lnTo>
                  <a:lnTo>
                    <a:pt x="1858" y="2007"/>
                  </a:lnTo>
                  <a:lnTo>
                    <a:pt x="1866" y="2049"/>
                  </a:lnTo>
                  <a:lnTo>
                    <a:pt x="1873" y="2089"/>
                  </a:lnTo>
                  <a:lnTo>
                    <a:pt x="1876" y="2131"/>
                  </a:lnTo>
                  <a:lnTo>
                    <a:pt x="1877" y="2173"/>
                  </a:lnTo>
                  <a:lnTo>
                    <a:pt x="1876" y="2213"/>
                  </a:lnTo>
                  <a:lnTo>
                    <a:pt x="1873" y="2252"/>
                  </a:lnTo>
                  <a:lnTo>
                    <a:pt x="1868" y="2289"/>
                  </a:lnTo>
                  <a:lnTo>
                    <a:pt x="1861" y="2327"/>
                  </a:lnTo>
                  <a:lnTo>
                    <a:pt x="1853" y="2364"/>
                  </a:lnTo>
                  <a:lnTo>
                    <a:pt x="1842" y="2400"/>
                  </a:lnTo>
                  <a:lnTo>
                    <a:pt x="1830" y="2436"/>
                  </a:lnTo>
                  <a:lnTo>
                    <a:pt x="1815" y="2471"/>
                  </a:lnTo>
                  <a:lnTo>
                    <a:pt x="1798" y="2505"/>
                  </a:lnTo>
                  <a:lnTo>
                    <a:pt x="1779" y="2538"/>
                  </a:lnTo>
                  <a:lnTo>
                    <a:pt x="1759" y="2572"/>
                  </a:lnTo>
                  <a:lnTo>
                    <a:pt x="1737" y="2603"/>
                  </a:lnTo>
                  <a:lnTo>
                    <a:pt x="1713" y="2634"/>
                  </a:lnTo>
                  <a:lnTo>
                    <a:pt x="1686" y="2665"/>
                  </a:lnTo>
                  <a:lnTo>
                    <a:pt x="1658" y="2694"/>
                  </a:lnTo>
                  <a:lnTo>
                    <a:pt x="1628" y="2723"/>
                  </a:lnTo>
                  <a:lnTo>
                    <a:pt x="1596" y="2752"/>
                  </a:lnTo>
                  <a:lnTo>
                    <a:pt x="1563" y="2777"/>
                  </a:lnTo>
                  <a:lnTo>
                    <a:pt x="1530" y="2802"/>
                  </a:lnTo>
                  <a:lnTo>
                    <a:pt x="1494" y="2825"/>
                  </a:lnTo>
                  <a:lnTo>
                    <a:pt x="1458" y="2845"/>
                  </a:lnTo>
                  <a:lnTo>
                    <a:pt x="1421" y="2865"/>
                  </a:lnTo>
                  <a:lnTo>
                    <a:pt x="1383" y="2883"/>
                  </a:lnTo>
                  <a:lnTo>
                    <a:pt x="1343" y="2897"/>
                  </a:lnTo>
                  <a:lnTo>
                    <a:pt x="1303" y="2911"/>
                  </a:lnTo>
                  <a:lnTo>
                    <a:pt x="1261" y="2923"/>
                  </a:lnTo>
                  <a:lnTo>
                    <a:pt x="1218" y="2933"/>
                  </a:lnTo>
                  <a:lnTo>
                    <a:pt x="1173" y="2942"/>
                  </a:lnTo>
                  <a:lnTo>
                    <a:pt x="1128" y="2947"/>
                  </a:lnTo>
                  <a:lnTo>
                    <a:pt x="1082" y="2952"/>
                  </a:lnTo>
                  <a:lnTo>
                    <a:pt x="1035" y="2955"/>
                  </a:lnTo>
                  <a:lnTo>
                    <a:pt x="986" y="2956"/>
                  </a:lnTo>
                  <a:lnTo>
                    <a:pt x="956" y="2956"/>
                  </a:lnTo>
                  <a:lnTo>
                    <a:pt x="925" y="2955"/>
                  </a:lnTo>
                  <a:lnTo>
                    <a:pt x="897" y="2953"/>
                  </a:lnTo>
                  <a:lnTo>
                    <a:pt x="868" y="2952"/>
                  </a:lnTo>
                  <a:lnTo>
                    <a:pt x="839" y="2949"/>
                  </a:lnTo>
                  <a:lnTo>
                    <a:pt x="812" y="2946"/>
                  </a:lnTo>
                  <a:lnTo>
                    <a:pt x="784" y="2942"/>
                  </a:lnTo>
                  <a:lnTo>
                    <a:pt x="757" y="2937"/>
                  </a:lnTo>
                  <a:lnTo>
                    <a:pt x="748" y="2936"/>
                  </a:lnTo>
                  <a:lnTo>
                    <a:pt x="738" y="2934"/>
                  </a:lnTo>
                  <a:lnTo>
                    <a:pt x="728" y="2932"/>
                  </a:lnTo>
                  <a:lnTo>
                    <a:pt x="717" y="2929"/>
                  </a:lnTo>
                  <a:lnTo>
                    <a:pt x="704" y="2926"/>
                  </a:lnTo>
                  <a:lnTo>
                    <a:pt x="689" y="2921"/>
                  </a:lnTo>
                  <a:lnTo>
                    <a:pt x="673" y="2917"/>
                  </a:lnTo>
                  <a:lnTo>
                    <a:pt x="658" y="2913"/>
                  </a:lnTo>
                  <a:lnTo>
                    <a:pt x="640" y="2907"/>
                  </a:lnTo>
                  <a:lnTo>
                    <a:pt x="622" y="2903"/>
                  </a:lnTo>
                  <a:lnTo>
                    <a:pt x="603" y="2897"/>
                  </a:lnTo>
                  <a:lnTo>
                    <a:pt x="583" y="2890"/>
                  </a:lnTo>
                  <a:lnTo>
                    <a:pt x="561" y="2884"/>
                  </a:lnTo>
                  <a:lnTo>
                    <a:pt x="538" y="2877"/>
                  </a:lnTo>
                  <a:lnTo>
                    <a:pt x="514" y="2868"/>
                  </a:lnTo>
                  <a:lnTo>
                    <a:pt x="489" y="2861"/>
                  </a:lnTo>
                  <a:lnTo>
                    <a:pt x="465" y="2854"/>
                  </a:lnTo>
                  <a:lnTo>
                    <a:pt x="440" y="2845"/>
                  </a:lnTo>
                  <a:lnTo>
                    <a:pt x="417" y="2839"/>
                  </a:lnTo>
                  <a:lnTo>
                    <a:pt x="396" y="2832"/>
                  </a:lnTo>
                  <a:lnTo>
                    <a:pt x="375" y="2826"/>
                  </a:lnTo>
                  <a:lnTo>
                    <a:pt x="357" y="2821"/>
                  </a:lnTo>
                  <a:lnTo>
                    <a:pt x="339" y="2816"/>
                  </a:lnTo>
                  <a:lnTo>
                    <a:pt x="322" y="2812"/>
                  </a:lnTo>
                  <a:lnTo>
                    <a:pt x="308" y="2808"/>
                  </a:lnTo>
                  <a:lnTo>
                    <a:pt x="293" y="2805"/>
                  </a:lnTo>
                  <a:lnTo>
                    <a:pt x="279" y="2802"/>
                  </a:lnTo>
                  <a:lnTo>
                    <a:pt x="268" y="2799"/>
                  </a:lnTo>
                  <a:lnTo>
                    <a:pt x="257" y="2798"/>
                  </a:lnTo>
                  <a:lnTo>
                    <a:pt x="247" y="2796"/>
                  </a:lnTo>
                  <a:lnTo>
                    <a:pt x="239" y="2795"/>
                  </a:lnTo>
                  <a:lnTo>
                    <a:pt x="232" y="2795"/>
                  </a:lnTo>
                  <a:lnTo>
                    <a:pt x="219" y="2795"/>
                  </a:lnTo>
                  <a:lnTo>
                    <a:pt x="207" y="2796"/>
                  </a:lnTo>
                  <a:lnTo>
                    <a:pt x="196" y="2799"/>
                  </a:lnTo>
                  <a:lnTo>
                    <a:pt x="184" y="2803"/>
                  </a:lnTo>
                  <a:lnTo>
                    <a:pt x="174" y="2808"/>
                  </a:lnTo>
                  <a:lnTo>
                    <a:pt x="165" y="2813"/>
                  </a:lnTo>
                  <a:lnTo>
                    <a:pt x="157" y="2819"/>
                  </a:lnTo>
                  <a:lnTo>
                    <a:pt x="149" y="2826"/>
                  </a:lnTo>
                  <a:lnTo>
                    <a:pt x="142" y="2835"/>
                  </a:lnTo>
                  <a:lnTo>
                    <a:pt x="135" y="2847"/>
                  </a:lnTo>
                  <a:lnTo>
                    <a:pt x="129" y="2860"/>
                  </a:lnTo>
                  <a:lnTo>
                    <a:pt x="122" y="2875"/>
                  </a:lnTo>
                  <a:lnTo>
                    <a:pt x="118" y="2893"/>
                  </a:lnTo>
                  <a:lnTo>
                    <a:pt x="112" y="2911"/>
                  </a:lnTo>
                  <a:lnTo>
                    <a:pt x="108" y="2933"/>
                  </a:lnTo>
                  <a:lnTo>
                    <a:pt x="103" y="2956"/>
                  </a:lnTo>
                  <a:lnTo>
                    <a:pt x="29" y="2956"/>
                  </a:lnTo>
                  <a:lnTo>
                    <a:pt x="29" y="1989"/>
                  </a:lnTo>
                  <a:lnTo>
                    <a:pt x="103" y="1989"/>
                  </a:lnTo>
                  <a:lnTo>
                    <a:pt x="118" y="2062"/>
                  </a:lnTo>
                  <a:lnTo>
                    <a:pt x="132" y="2131"/>
                  </a:lnTo>
                  <a:lnTo>
                    <a:pt x="149" y="2196"/>
                  </a:lnTo>
                  <a:lnTo>
                    <a:pt x="167" y="2255"/>
                  </a:lnTo>
                  <a:lnTo>
                    <a:pt x="185" y="2310"/>
                  </a:lnTo>
                  <a:lnTo>
                    <a:pt x="206" y="2360"/>
                  </a:lnTo>
                  <a:lnTo>
                    <a:pt x="227" y="2405"/>
                  </a:lnTo>
                  <a:lnTo>
                    <a:pt x="250" y="2445"/>
                  </a:lnTo>
                  <a:lnTo>
                    <a:pt x="262" y="2464"/>
                  </a:lnTo>
                  <a:lnTo>
                    <a:pt x="275" y="2482"/>
                  </a:lnTo>
                  <a:lnTo>
                    <a:pt x="288" y="2500"/>
                  </a:lnTo>
                  <a:lnTo>
                    <a:pt x="302" y="2517"/>
                  </a:lnTo>
                  <a:lnTo>
                    <a:pt x="316" y="2534"/>
                  </a:lnTo>
                  <a:lnTo>
                    <a:pt x="332" y="2550"/>
                  </a:lnTo>
                  <a:lnTo>
                    <a:pt x="348" y="2566"/>
                  </a:lnTo>
                  <a:lnTo>
                    <a:pt x="365" y="2582"/>
                  </a:lnTo>
                  <a:lnTo>
                    <a:pt x="384" y="2598"/>
                  </a:lnTo>
                  <a:lnTo>
                    <a:pt x="403" y="2612"/>
                  </a:lnTo>
                  <a:lnTo>
                    <a:pt x="422" y="2626"/>
                  </a:lnTo>
                  <a:lnTo>
                    <a:pt x="442" y="2641"/>
                  </a:lnTo>
                  <a:lnTo>
                    <a:pt x="463" y="2655"/>
                  </a:lnTo>
                  <a:lnTo>
                    <a:pt x="485" y="2668"/>
                  </a:lnTo>
                  <a:lnTo>
                    <a:pt x="508" y="2681"/>
                  </a:lnTo>
                  <a:lnTo>
                    <a:pt x="531" y="2694"/>
                  </a:lnTo>
                  <a:lnTo>
                    <a:pt x="554" y="2705"/>
                  </a:lnTo>
                  <a:lnTo>
                    <a:pt x="578" y="2717"/>
                  </a:lnTo>
                  <a:lnTo>
                    <a:pt x="603" y="2727"/>
                  </a:lnTo>
                  <a:lnTo>
                    <a:pt x="627" y="2737"/>
                  </a:lnTo>
                  <a:lnTo>
                    <a:pt x="652" y="2746"/>
                  </a:lnTo>
                  <a:lnTo>
                    <a:pt x="678" y="2754"/>
                  </a:lnTo>
                  <a:lnTo>
                    <a:pt x="702" y="2762"/>
                  </a:lnTo>
                  <a:lnTo>
                    <a:pt x="728" y="2769"/>
                  </a:lnTo>
                  <a:lnTo>
                    <a:pt x="754" y="2775"/>
                  </a:lnTo>
                  <a:lnTo>
                    <a:pt x="780" y="2779"/>
                  </a:lnTo>
                  <a:lnTo>
                    <a:pt x="807" y="2783"/>
                  </a:lnTo>
                  <a:lnTo>
                    <a:pt x="833" y="2788"/>
                  </a:lnTo>
                  <a:lnTo>
                    <a:pt x="861" y="2790"/>
                  </a:lnTo>
                  <a:lnTo>
                    <a:pt x="888" y="2792"/>
                  </a:lnTo>
                  <a:lnTo>
                    <a:pt x="915" y="2793"/>
                  </a:lnTo>
                  <a:lnTo>
                    <a:pt x="943" y="2793"/>
                  </a:lnTo>
                  <a:lnTo>
                    <a:pt x="974" y="2793"/>
                  </a:lnTo>
                  <a:lnTo>
                    <a:pt x="1006" y="2792"/>
                  </a:lnTo>
                  <a:lnTo>
                    <a:pt x="1036" y="2789"/>
                  </a:lnTo>
                  <a:lnTo>
                    <a:pt x="1065" y="2785"/>
                  </a:lnTo>
                  <a:lnTo>
                    <a:pt x="1094" y="2780"/>
                  </a:lnTo>
                  <a:lnTo>
                    <a:pt x="1123" y="2775"/>
                  </a:lnTo>
                  <a:lnTo>
                    <a:pt x="1150" y="2767"/>
                  </a:lnTo>
                  <a:lnTo>
                    <a:pt x="1176" y="2759"/>
                  </a:lnTo>
                  <a:lnTo>
                    <a:pt x="1200" y="2750"/>
                  </a:lnTo>
                  <a:lnTo>
                    <a:pt x="1225" y="2740"/>
                  </a:lnTo>
                  <a:lnTo>
                    <a:pt x="1249" y="2729"/>
                  </a:lnTo>
                  <a:lnTo>
                    <a:pt x="1272" y="2717"/>
                  </a:lnTo>
                  <a:lnTo>
                    <a:pt x="1294" y="2704"/>
                  </a:lnTo>
                  <a:lnTo>
                    <a:pt x="1316" y="2688"/>
                  </a:lnTo>
                  <a:lnTo>
                    <a:pt x="1336" y="2674"/>
                  </a:lnTo>
                  <a:lnTo>
                    <a:pt x="1354" y="2657"/>
                  </a:lnTo>
                  <a:lnTo>
                    <a:pt x="1390" y="2622"/>
                  </a:lnTo>
                  <a:lnTo>
                    <a:pt x="1421" y="2586"/>
                  </a:lnTo>
                  <a:lnTo>
                    <a:pt x="1447" y="2549"/>
                  </a:lnTo>
                  <a:lnTo>
                    <a:pt x="1468" y="2508"/>
                  </a:lnTo>
                  <a:lnTo>
                    <a:pt x="1484" y="2467"/>
                  </a:lnTo>
                  <a:lnTo>
                    <a:pt x="1496" y="2423"/>
                  </a:lnTo>
                  <a:lnTo>
                    <a:pt x="1503" y="2379"/>
                  </a:lnTo>
                  <a:lnTo>
                    <a:pt x="1506" y="2333"/>
                  </a:lnTo>
                  <a:lnTo>
                    <a:pt x="1504" y="2307"/>
                  </a:lnTo>
                  <a:lnTo>
                    <a:pt x="1501" y="2281"/>
                  </a:lnTo>
                  <a:lnTo>
                    <a:pt x="1497" y="2255"/>
                  </a:lnTo>
                  <a:lnTo>
                    <a:pt x="1491" y="2228"/>
                  </a:lnTo>
                  <a:lnTo>
                    <a:pt x="1483" y="2202"/>
                  </a:lnTo>
                  <a:lnTo>
                    <a:pt x="1472" y="2176"/>
                  </a:lnTo>
                  <a:lnTo>
                    <a:pt x="1461" y="2148"/>
                  </a:lnTo>
                  <a:lnTo>
                    <a:pt x="1448" y="2122"/>
                  </a:lnTo>
                  <a:lnTo>
                    <a:pt x="1434" y="2096"/>
                  </a:lnTo>
                  <a:lnTo>
                    <a:pt x="1416" y="2071"/>
                  </a:lnTo>
                  <a:lnTo>
                    <a:pt x="1396" y="2045"/>
                  </a:lnTo>
                  <a:lnTo>
                    <a:pt x="1375" y="2020"/>
                  </a:lnTo>
                  <a:lnTo>
                    <a:pt x="1352" y="1996"/>
                  </a:lnTo>
                  <a:lnTo>
                    <a:pt x="1326" y="1971"/>
                  </a:lnTo>
                  <a:lnTo>
                    <a:pt x="1298" y="1947"/>
                  </a:lnTo>
                  <a:lnTo>
                    <a:pt x="1269" y="1924"/>
                  </a:lnTo>
                  <a:lnTo>
                    <a:pt x="1258" y="1915"/>
                  </a:lnTo>
                  <a:lnTo>
                    <a:pt x="1245" y="1906"/>
                  </a:lnTo>
                  <a:lnTo>
                    <a:pt x="1229" y="1895"/>
                  </a:lnTo>
                  <a:lnTo>
                    <a:pt x="1210" y="1883"/>
                  </a:lnTo>
                  <a:lnTo>
                    <a:pt x="1190" y="1870"/>
                  </a:lnTo>
                  <a:lnTo>
                    <a:pt x="1169" y="1858"/>
                  </a:lnTo>
                  <a:lnTo>
                    <a:pt x="1144" y="1842"/>
                  </a:lnTo>
                  <a:lnTo>
                    <a:pt x="1118" y="1826"/>
                  </a:lnTo>
                  <a:lnTo>
                    <a:pt x="1090" y="1809"/>
                  </a:lnTo>
                  <a:lnTo>
                    <a:pt x="1058" y="1790"/>
                  </a:lnTo>
                  <a:lnTo>
                    <a:pt x="1025" y="1771"/>
                  </a:lnTo>
                  <a:lnTo>
                    <a:pt x="990" y="1750"/>
                  </a:lnTo>
                  <a:lnTo>
                    <a:pt x="953" y="1728"/>
                  </a:lnTo>
                  <a:lnTo>
                    <a:pt x="912" y="1706"/>
                  </a:lnTo>
                  <a:lnTo>
                    <a:pt x="871" y="1682"/>
                  </a:lnTo>
                  <a:lnTo>
                    <a:pt x="828" y="1657"/>
                  </a:lnTo>
                  <a:lnTo>
                    <a:pt x="783" y="1633"/>
                  </a:lnTo>
                  <a:lnTo>
                    <a:pt x="740" y="1608"/>
                  </a:lnTo>
                  <a:lnTo>
                    <a:pt x="699" y="1584"/>
                  </a:lnTo>
                  <a:lnTo>
                    <a:pt x="659" y="1561"/>
                  </a:lnTo>
                  <a:lnTo>
                    <a:pt x="622" y="1538"/>
                  </a:lnTo>
                  <a:lnTo>
                    <a:pt x="584" y="1516"/>
                  </a:lnTo>
                  <a:lnTo>
                    <a:pt x="550" y="1496"/>
                  </a:lnTo>
                  <a:lnTo>
                    <a:pt x="517" y="1475"/>
                  </a:lnTo>
                  <a:lnTo>
                    <a:pt x="485" y="1454"/>
                  </a:lnTo>
                  <a:lnTo>
                    <a:pt x="456" y="1436"/>
                  </a:lnTo>
                  <a:lnTo>
                    <a:pt x="427" y="1417"/>
                  </a:lnTo>
                  <a:lnTo>
                    <a:pt x="401" y="1400"/>
                  </a:lnTo>
                  <a:lnTo>
                    <a:pt x="377" y="1382"/>
                  </a:lnTo>
                  <a:lnTo>
                    <a:pt x="354" y="1365"/>
                  </a:lnTo>
                  <a:lnTo>
                    <a:pt x="332" y="1349"/>
                  </a:lnTo>
                  <a:lnTo>
                    <a:pt x="312" y="1333"/>
                  </a:lnTo>
                  <a:lnTo>
                    <a:pt x="293" y="1318"/>
                  </a:lnTo>
                  <a:lnTo>
                    <a:pt x="275" y="1303"/>
                  </a:lnTo>
                  <a:lnTo>
                    <a:pt x="256" y="1287"/>
                  </a:lnTo>
                  <a:lnTo>
                    <a:pt x="240" y="1272"/>
                  </a:lnTo>
                  <a:lnTo>
                    <a:pt x="223" y="1256"/>
                  </a:lnTo>
                  <a:lnTo>
                    <a:pt x="207" y="1238"/>
                  </a:lnTo>
                  <a:lnTo>
                    <a:pt x="191" y="1223"/>
                  </a:lnTo>
                  <a:lnTo>
                    <a:pt x="177" y="1205"/>
                  </a:lnTo>
                  <a:lnTo>
                    <a:pt x="162" y="1189"/>
                  </a:lnTo>
                  <a:lnTo>
                    <a:pt x="149" y="1172"/>
                  </a:lnTo>
                  <a:lnTo>
                    <a:pt x="135" y="1155"/>
                  </a:lnTo>
                  <a:lnTo>
                    <a:pt x="124" y="1138"/>
                  </a:lnTo>
                  <a:lnTo>
                    <a:pt x="112" y="1120"/>
                  </a:lnTo>
                  <a:lnTo>
                    <a:pt x="101" y="1102"/>
                  </a:lnTo>
                  <a:lnTo>
                    <a:pt x="89" y="1084"/>
                  </a:lnTo>
                  <a:lnTo>
                    <a:pt x="79" y="1066"/>
                  </a:lnTo>
                  <a:lnTo>
                    <a:pt x="60" y="1030"/>
                  </a:lnTo>
                  <a:lnTo>
                    <a:pt x="44" y="991"/>
                  </a:lnTo>
                  <a:lnTo>
                    <a:pt x="30" y="952"/>
                  </a:lnTo>
                  <a:lnTo>
                    <a:pt x="20" y="913"/>
                  </a:lnTo>
                  <a:lnTo>
                    <a:pt x="11" y="871"/>
                  </a:lnTo>
                  <a:lnTo>
                    <a:pt x="4" y="831"/>
                  </a:lnTo>
                  <a:lnTo>
                    <a:pt x="1" y="788"/>
                  </a:lnTo>
                  <a:lnTo>
                    <a:pt x="0" y="745"/>
                  </a:lnTo>
                  <a:lnTo>
                    <a:pt x="1" y="707"/>
                  </a:lnTo>
                  <a:lnTo>
                    <a:pt x="4" y="670"/>
                  </a:lnTo>
                  <a:lnTo>
                    <a:pt x="8" y="634"/>
                  </a:lnTo>
                  <a:lnTo>
                    <a:pt x="14" y="598"/>
                  </a:lnTo>
                  <a:lnTo>
                    <a:pt x="23" y="563"/>
                  </a:lnTo>
                  <a:lnTo>
                    <a:pt x="33" y="529"/>
                  </a:lnTo>
                  <a:lnTo>
                    <a:pt x="44" y="494"/>
                  </a:lnTo>
                  <a:lnTo>
                    <a:pt x="59" y="461"/>
                  </a:lnTo>
                  <a:lnTo>
                    <a:pt x="73" y="429"/>
                  </a:lnTo>
                  <a:lnTo>
                    <a:pt x="90" y="398"/>
                  </a:lnTo>
                  <a:lnTo>
                    <a:pt x="111" y="366"/>
                  </a:lnTo>
                  <a:lnTo>
                    <a:pt x="131" y="336"/>
                  </a:lnTo>
                  <a:lnTo>
                    <a:pt x="154" y="306"/>
                  </a:lnTo>
                  <a:lnTo>
                    <a:pt x="178" y="277"/>
                  </a:lnTo>
                  <a:lnTo>
                    <a:pt x="204" y="248"/>
                  </a:lnTo>
                  <a:lnTo>
                    <a:pt x="233" y="221"/>
                  </a:lnTo>
                  <a:lnTo>
                    <a:pt x="263" y="193"/>
                  </a:lnTo>
                  <a:lnTo>
                    <a:pt x="293" y="169"/>
                  </a:lnTo>
                  <a:lnTo>
                    <a:pt x="325" y="146"/>
                  </a:lnTo>
                  <a:lnTo>
                    <a:pt x="358" y="124"/>
                  </a:lnTo>
                  <a:lnTo>
                    <a:pt x="391" y="104"/>
                  </a:lnTo>
                  <a:lnTo>
                    <a:pt x="426" y="87"/>
                  </a:lnTo>
                  <a:lnTo>
                    <a:pt x="462" y="69"/>
                  </a:lnTo>
                  <a:lnTo>
                    <a:pt x="498" y="55"/>
                  </a:lnTo>
                  <a:lnTo>
                    <a:pt x="537" y="42"/>
                  </a:lnTo>
                  <a:lnTo>
                    <a:pt x="574" y="32"/>
                  </a:lnTo>
                  <a:lnTo>
                    <a:pt x="614" y="22"/>
                  </a:lnTo>
                  <a:lnTo>
                    <a:pt x="655" y="15"/>
                  </a:lnTo>
                  <a:lnTo>
                    <a:pt x="697" y="7"/>
                  </a:lnTo>
                  <a:lnTo>
                    <a:pt x="740" y="3"/>
                  </a:lnTo>
                  <a:lnTo>
                    <a:pt x="783" y="2"/>
                  </a:lnTo>
                  <a:lnTo>
                    <a:pt x="828" y="0"/>
                  </a:lnTo>
                  <a:lnTo>
                    <a:pt x="855" y="0"/>
                  </a:lnTo>
                  <a:lnTo>
                    <a:pt x="884" y="2"/>
                  </a:lnTo>
                  <a:lnTo>
                    <a:pt x="911" y="5"/>
                  </a:lnTo>
                  <a:lnTo>
                    <a:pt x="940" y="7"/>
                  </a:lnTo>
                  <a:lnTo>
                    <a:pt x="969" y="10"/>
                  </a:lnTo>
                  <a:lnTo>
                    <a:pt x="999" y="16"/>
                  </a:lnTo>
                  <a:lnTo>
                    <a:pt x="1028" y="20"/>
                  </a:lnTo>
                  <a:lnTo>
                    <a:pt x="1058" y="28"/>
                  </a:lnTo>
                  <a:lnTo>
                    <a:pt x="1088" y="35"/>
                  </a:lnTo>
                  <a:lnTo>
                    <a:pt x="1118" y="43"/>
                  </a:lnTo>
                  <a:lnTo>
                    <a:pt x="1149" y="52"/>
                  </a:lnTo>
                  <a:lnTo>
                    <a:pt x="1179" y="62"/>
                  </a:lnTo>
                  <a:lnTo>
                    <a:pt x="1209" y="72"/>
                  </a:lnTo>
                  <a:lnTo>
                    <a:pt x="1241" y="84"/>
                  </a:lnTo>
                  <a:lnTo>
                    <a:pt x="1271" y="97"/>
                  </a:lnTo>
                  <a:lnTo>
                    <a:pt x="1303" y="110"/>
                  </a:lnTo>
                  <a:lnTo>
                    <a:pt x="1331" y="121"/>
                  </a:lnTo>
                  <a:lnTo>
                    <a:pt x="1357" y="133"/>
                  </a:lnTo>
                  <a:lnTo>
                    <a:pt x="1380" y="141"/>
                  </a:lnTo>
                  <a:lnTo>
                    <a:pt x="1403" y="149"/>
                  </a:lnTo>
                  <a:lnTo>
                    <a:pt x="1422" y="156"/>
                  </a:lnTo>
                  <a:lnTo>
                    <a:pt x="1439" y="160"/>
                  </a:lnTo>
                  <a:lnTo>
                    <a:pt x="1455" y="162"/>
                  </a:lnTo>
                  <a:lnTo>
                    <a:pt x="1468" y="163"/>
                  </a:lnTo>
                  <a:lnTo>
                    <a:pt x="1481" y="163"/>
                  </a:lnTo>
                  <a:lnTo>
                    <a:pt x="1494" y="162"/>
                  </a:lnTo>
                  <a:lnTo>
                    <a:pt x="1506" y="159"/>
                  </a:lnTo>
                  <a:lnTo>
                    <a:pt x="1517" y="154"/>
                  </a:lnTo>
                  <a:lnTo>
                    <a:pt x="1529" y="150"/>
                  </a:lnTo>
                  <a:lnTo>
                    <a:pt x="1539" y="144"/>
                  </a:lnTo>
                  <a:lnTo>
                    <a:pt x="1547" y="137"/>
                  </a:lnTo>
                  <a:lnTo>
                    <a:pt x="1556" y="130"/>
                  </a:lnTo>
                  <a:lnTo>
                    <a:pt x="1565" y="120"/>
                  </a:lnTo>
                  <a:lnTo>
                    <a:pt x="1572" y="110"/>
                  </a:lnTo>
                  <a:lnTo>
                    <a:pt x="1580" y="95"/>
                  </a:lnTo>
                  <a:lnTo>
                    <a:pt x="1588" y="81"/>
                  </a:lnTo>
                  <a:lnTo>
                    <a:pt x="1593" y="64"/>
                  </a:lnTo>
                  <a:lnTo>
                    <a:pt x="1601" y="45"/>
                  </a:lnTo>
                  <a:lnTo>
                    <a:pt x="1606" y="23"/>
                  </a:lnTo>
                  <a:lnTo>
                    <a:pt x="1612" y="0"/>
                  </a:lnTo>
                  <a:lnTo>
                    <a:pt x="16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组合 60454"/>
            <p:cNvGrpSpPr/>
            <p:nvPr/>
          </p:nvGrpSpPr>
          <p:grpSpPr>
            <a:xfrm>
              <a:off x="9279720" y="5356080"/>
              <a:ext cx="858240" cy="1160280"/>
              <a:chOff x="9279720" y="5356080"/>
              <a:chExt cx="858240" cy="1160280"/>
            </a:xfrm>
          </p:grpSpPr>
          <p:sp>
            <p:nvSpPr>
              <p:cNvPr id="76" name="任意多边形 60455"/>
              <p:cNvSpPr/>
              <p:nvPr/>
            </p:nvSpPr>
            <p:spPr>
              <a:xfrm>
                <a:off x="9697320" y="5986800"/>
                <a:ext cx="33120" cy="3384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3" y="75"/>
                    </a:moveTo>
                    <a:lnTo>
                      <a:pt x="1" y="85"/>
                    </a:lnTo>
                    <a:lnTo>
                      <a:pt x="10" y="83"/>
                    </a:lnTo>
                    <a:lnTo>
                      <a:pt x="23" y="78"/>
                    </a:lnTo>
                    <a:lnTo>
                      <a:pt x="30" y="73"/>
                    </a:lnTo>
                    <a:lnTo>
                      <a:pt x="41" y="50"/>
                    </a:lnTo>
                    <a:lnTo>
                      <a:pt x="33" y="29"/>
                    </a:lnTo>
                    <a:lnTo>
                      <a:pt x="13" y="19"/>
                    </a:lnTo>
                    <a:lnTo>
                      <a:pt x="43" y="8"/>
                    </a:lnTo>
                    <a:lnTo>
                      <a:pt x="79" y="20"/>
                    </a:lnTo>
                    <a:lnTo>
                      <a:pt x="72" y="13"/>
                    </a:lnTo>
                    <a:lnTo>
                      <a:pt x="63" y="7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13" y="3"/>
                    </a:lnTo>
                    <a:lnTo>
                      <a:pt x="3" y="7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13" y="26"/>
                    </a:lnTo>
                    <a:lnTo>
                      <a:pt x="23" y="29"/>
                    </a:lnTo>
                    <a:lnTo>
                      <a:pt x="27" y="49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任意多边形 60456"/>
              <p:cNvSpPr/>
              <p:nvPr/>
            </p:nvSpPr>
            <p:spPr>
              <a:xfrm>
                <a:off x="9697320" y="5986800"/>
                <a:ext cx="33120" cy="3384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3" y="75"/>
                    </a:moveTo>
                    <a:lnTo>
                      <a:pt x="3" y="75"/>
                    </a:lnTo>
                    <a:lnTo>
                      <a:pt x="1" y="85"/>
                    </a:lnTo>
                    <a:lnTo>
                      <a:pt x="10" y="83"/>
                    </a:lnTo>
                    <a:lnTo>
                      <a:pt x="23" y="78"/>
                    </a:lnTo>
                    <a:lnTo>
                      <a:pt x="30" y="73"/>
                    </a:lnTo>
                    <a:lnTo>
                      <a:pt x="41" y="50"/>
                    </a:lnTo>
                    <a:lnTo>
                      <a:pt x="33" y="29"/>
                    </a:lnTo>
                    <a:lnTo>
                      <a:pt x="13" y="19"/>
                    </a:lnTo>
                    <a:lnTo>
                      <a:pt x="43" y="8"/>
                    </a:lnTo>
                    <a:lnTo>
                      <a:pt x="79" y="20"/>
                    </a:lnTo>
                    <a:lnTo>
                      <a:pt x="79" y="20"/>
                    </a:lnTo>
                    <a:lnTo>
                      <a:pt x="72" y="13"/>
                    </a:lnTo>
                    <a:lnTo>
                      <a:pt x="63" y="7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13" y="3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13" y="26"/>
                    </a:lnTo>
                    <a:lnTo>
                      <a:pt x="23" y="29"/>
                    </a:lnTo>
                    <a:lnTo>
                      <a:pt x="27" y="49"/>
                    </a:lnTo>
                    <a:lnTo>
                      <a:pt x="3" y="75"/>
                    </a:lnTo>
                  </a:path>
                </a:pathLst>
              </a:custGeom>
              <a:noFill/>
              <a:ln w="0">
                <a:solidFill>
                  <a:srgbClr val="494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任意多边形 60457"/>
              <p:cNvSpPr/>
              <p:nvPr/>
            </p:nvSpPr>
            <p:spPr>
              <a:xfrm>
                <a:off x="9684360" y="5990040"/>
                <a:ext cx="14760" cy="3060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34" y="18"/>
                    </a:moveTo>
                    <a:lnTo>
                      <a:pt x="36" y="11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19" y="8"/>
                    </a:lnTo>
                    <a:lnTo>
                      <a:pt x="0" y="42"/>
                    </a:lnTo>
                    <a:lnTo>
                      <a:pt x="9" y="68"/>
                    </a:lnTo>
                    <a:lnTo>
                      <a:pt x="13" y="71"/>
                    </a:lnTo>
                    <a:lnTo>
                      <a:pt x="18" y="74"/>
                    </a:lnTo>
                    <a:lnTo>
                      <a:pt x="23" y="75"/>
                    </a:lnTo>
                    <a:lnTo>
                      <a:pt x="28" y="77"/>
                    </a:lnTo>
                    <a:lnTo>
                      <a:pt x="31" y="75"/>
                    </a:lnTo>
                    <a:lnTo>
                      <a:pt x="34" y="74"/>
                    </a:lnTo>
                    <a:lnTo>
                      <a:pt x="35" y="70"/>
                    </a:lnTo>
                    <a:lnTo>
                      <a:pt x="34" y="67"/>
                    </a:lnTo>
                    <a:lnTo>
                      <a:pt x="26" y="62"/>
                    </a:lnTo>
                    <a:lnTo>
                      <a:pt x="18" y="58"/>
                    </a:lnTo>
                    <a:lnTo>
                      <a:pt x="12" y="54"/>
                    </a:lnTo>
                    <a:lnTo>
                      <a:pt x="11" y="48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任意多边形 60458"/>
              <p:cNvSpPr/>
              <p:nvPr/>
            </p:nvSpPr>
            <p:spPr>
              <a:xfrm>
                <a:off x="9684360" y="5990040"/>
                <a:ext cx="14760" cy="3060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34" y="18"/>
                    </a:moveTo>
                    <a:lnTo>
                      <a:pt x="34" y="18"/>
                    </a:lnTo>
                    <a:lnTo>
                      <a:pt x="36" y="11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19" y="8"/>
                    </a:lnTo>
                    <a:lnTo>
                      <a:pt x="0" y="42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3" y="71"/>
                    </a:lnTo>
                    <a:lnTo>
                      <a:pt x="18" y="74"/>
                    </a:lnTo>
                    <a:lnTo>
                      <a:pt x="23" y="75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31" y="75"/>
                    </a:lnTo>
                    <a:lnTo>
                      <a:pt x="34" y="74"/>
                    </a:lnTo>
                    <a:lnTo>
                      <a:pt x="35" y="70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26" y="62"/>
                    </a:lnTo>
                    <a:lnTo>
                      <a:pt x="18" y="58"/>
                    </a:lnTo>
                    <a:lnTo>
                      <a:pt x="12" y="54"/>
                    </a:lnTo>
                    <a:lnTo>
                      <a:pt x="11" y="48"/>
                    </a:lnTo>
                    <a:lnTo>
                      <a:pt x="34" y="18"/>
                    </a:lnTo>
                  </a:path>
                </a:pathLst>
              </a:custGeom>
              <a:noFill/>
              <a:ln w="0">
                <a:solidFill>
                  <a:srgbClr val="494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任意多边形 60459"/>
              <p:cNvSpPr/>
              <p:nvPr/>
            </p:nvSpPr>
            <p:spPr>
              <a:xfrm>
                <a:off x="10001520" y="5356080"/>
                <a:ext cx="136440" cy="172800"/>
              </a:xfrm>
              <a:custGeom>
                <a:avLst/>
                <a:gdLst/>
                <a:ahLst/>
                <a:rect l="l" t="t" r="r" b="b"/>
                <a:pathLst>
                  <a:path w="324" h="434">
                    <a:moveTo>
                      <a:pt x="160" y="377"/>
                    </a:moveTo>
                    <a:lnTo>
                      <a:pt x="175" y="341"/>
                    </a:lnTo>
                    <a:lnTo>
                      <a:pt x="195" y="294"/>
                    </a:lnTo>
                    <a:lnTo>
                      <a:pt x="216" y="239"/>
                    </a:lnTo>
                    <a:lnTo>
                      <a:pt x="239" y="182"/>
                    </a:lnTo>
                    <a:lnTo>
                      <a:pt x="264" y="125"/>
                    </a:lnTo>
                    <a:lnTo>
                      <a:pt x="287" y="74"/>
                    </a:lnTo>
                    <a:lnTo>
                      <a:pt x="307" y="30"/>
                    </a:lnTo>
                    <a:lnTo>
                      <a:pt x="324" y="0"/>
                    </a:lnTo>
                    <a:lnTo>
                      <a:pt x="304" y="19"/>
                    </a:lnTo>
                    <a:lnTo>
                      <a:pt x="284" y="39"/>
                    </a:lnTo>
                    <a:lnTo>
                      <a:pt x="264" y="58"/>
                    </a:lnTo>
                    <a:lnTo>
                      <a:pt x="245" y="78"/>
                    </a:lnTo>
                    <a:lnTo>
                      <a:pt x="225" y="98"/>
                    </a:lnTo>
                    <a:lnTo>
                      <a:pt x="205" y="117"/>
                    </a:lnTo>
                    <a:lnTo>
                      <a:pt x="185" y="137"/>
                    </a:lnTo>
                    <a:lnTo>
                      <a:pt x="164" y="157"/>
                    </a:lnTo>
                    <a:lnTo>
                      <a:pt x="144" y="176"/>
                    </a:lnTo>
                    <a:lnTo>
                      <a:pt x="124" y="196"/>
                    </a:lnTo>
                    <a:lnTo>
                      <a:pt x="104" y="215"/>
                    </a:lnTo>
                    <a:lnTo>
                      <a:pt x="84" y="233"/>
                    </a:lnTo>
                    <a:lnTo>
                      <a:pt x="62" y="252"/>
                    </a:lnTo>
                    <a:lnTo>
                      <a:pt x="42" y="271"/>
                    </a:lnTo>
                    <a:lnTo>
                      <a:pt x="22" y="290"/>
                    </a:lnTo>
                    <a:lnTo>
                      <a:pt x="0" y="307"/>
                    </a:lnTo>
                    <a:lnTo>
                      <a:pt x="13" y="434"/>
                    </a:lnTo>
                    <a:lnTo>
                      <a:pt x="160" y="37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任意多边形 60460"/>
              <p:cNvSpPr/>
              <p:nvPr/>
            </p:nvSpPr>
            <p:spPr>
              <a:xfrm>
                <a:off x="10001520" y="5356080"/>
                <a:ext cx="136440" cy="172800"/>
              </a:xfrm>
              <a:custGeom>
                <a:avLst/>
                <a:gdLst/>
                <a:ahLst/>
                <a:rect l="l" t="t" r="r" b="b"/>
                <a:pathLst>
                  <a:path w="324" h="434">
                    <a:moveTo>
                      <a:pt x="160" y="377"/>
                    </a:moveTo>
                    <a:lnTo>
                      <a:pt x="160" y="377"/>
                    </a:lnTo>
                    <a:lnTo>
                      <a:pt x="175" y="341"/>
                    </a:lnTo>
                    <a:lnTo>
                      <a:pt x="195" y="294"/>
                    </a:lnTo>
                    <a:lnTo>
                      <a:pt x="216" y="239"/>
                    </a:lnTo>
                    <a:lnTo>
                      <a:pt x="239" y="182"/>
                    </a:lnTo>
                    <a:lnTo>
                      <a:pt x="264" y="125"/>
                    </a:lnTo>
                    <a:lnTo>
                      <a:pt x="287" y="74"/>
                    </a:lnTo>
                    <a:lnTo>
                      <a:pt x="307" y="30"/>
                    </a:lnTo>
                    <a:lnTo>
                      <a:pt x="324" y="0"/>
                    </a:lnTo>
                    <a:lnTo>
                      <a:pt x="324" y="0"/>
                    </a:lnTo>
                    <a:lnTo>
                      <a:pt x="304" y="19"/>
                    </a:lnTo>
                    <a:lnTo>
                      <a:pt x="284" y="39"/>
                    </a:lnTo>
                    <a:lnTo>
                      <a:pt x="264" y="58"/>
                    </a:lnTo>
                    <a:lnTo>
                      <a:pt x="245" y="78"/>
                    </a:lnTo>
                    <a:lnTo>
                      <a:pt x="225" y="98"/>
                    </a:lnTo>
                    <a:lnTo>
                      <a:pt x="205" y="117"/>
                    </a:lnTo>
                    <a:lnTo>
                      <a:pt x="185" y="137"/>
                    </a:lnTo>
                    <a:lnTo>
                      <a:pt x="164" y="157"/>
                    </a:lnTo>
                    <a:lnTo>
                      <a:pt x="144" y="176"/>
                    </a:lnTo>
                    <a:lnTo>
                      <a:pt x="124" y="196"/>
                    </a:lnTo>
                    <a:lnTo>
                      <a:pt x="104" y="215"/>
                    </a:lnTo>
                    <a:lnTo>
                      <a:pt x="84" y="233"/>
                    </a:lnTo>
                    <a:lnTo>
                      <a:pt x="62" y="252"/>
                    </a:lnTo>
                    <a:lnTo>
                      <a:pt x="42" y="271"/>
                    </a:lnTo>
                    <a:lnTo>
                      <a:pt x="22" y="290"/>
                    </a:lnTo>
                    <a:lnTo>
                      <a:pt x="0" y="307"/>
                    </a:lnTo>
                    <a:lnTo>
                      <a:pt x="13" y="434"/>
                    </a:lnTo>
                    <a:lnTo>
                      <a:pt x="160" y="377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任意多边形 60461"/>
              <p:cNvSpPr/>
              <p:nvPr/>
            </p:nvSpPr>
            <p:spPr>
              <a:xfrm>
                <a:off x="10011240" y="5366880"/>
                <a:ext cx="118080" cy="138960"/>
              </a:xfrm>
              <a:custGeom>
                <a:avLst/>
                <a:gdLst/>
                <a:ahLst/>
                <a:rect l="l" t="t" r="r" b="b"/>
                <a:pathLst>
                  <a:path w="281" h="349">
                    <a:moveTo>
                      <a:pt x="25" y="349"/>
                    </a:moveTo>
                    <a:lnTo>
                      <a:pt x="281" y="0"/>
                    </a:lnTo>
                    <a:lnTo>
                      <a:pt x="0" y="268"/>
                    </a:lnTo>
                    <a:lnTo>
                      <a:pt x="25" y="349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任意多边形 60462"/>
              <p:cNvSpPr/>
              <p:nvPr/>
            </p:nvSpPr>
            <p:spPr>
              <a:xfrm>
                <a:off x="10011240" y="5366880"/>
                <a:ext cx="118080" cy="138960"/>
              </a:xfrm>
              <a:custGeom>
                <a:avLst/>
                <a:gdLst/>
                <a:ahLst/>
                <a:rect l="l" t="t" r="r" b="b"/>
                <a:pathLst>
                  <a:path w="281" h="349">
                    <a:moveTo>
                      <a:pt x="25" y="349"/>
                    </a:moveTo>
                    <a:lnTo>
                      <a:pt x="281" y="0"/>
                    </a:lnTo>
                    <a:lnTo>
                      <a:pt x="0" y="268"/>
                    </a:lnTo>
                    <a:lnTo>
                      <a:pt x="25" y="349"/>
                    </a:lnTo>
                  </a:path>
                </a:pathLst>
              </a:custGeom>
              <a:noFill/>
              <a:ln w="0">
                <a:solidFill>
                  <a:srgbClr val="cecec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任意多边形 60463"/>
              <p:cNvSpPr/>
              <p:nvPr/>
            </p:nvSpPr>
            <p:spPr>
              <a:xfrm>
                <a:off x="9285120" y="5533200"/>
                <a:ext cx="743760" cy="977760"/>
              </a:xfrm>
              <a:custGeom>
                <a:avLst/>
                <a:gdLst/>
                <a:ahLst/>
                <a:rect l="l" t="t" r="r" b="b"/>
                <a:pathLst>
                  <a:path w="1766" h="2454">
                    <a:moveTo>
                      <a:pt x="1766" y="117"/>
                    </a:moveTo>
                    <a:lnTo>
                      <a:pt x="1717" y="187"/>
                    </a:lnTo>
                    <a:lnTo>
                      <a:pt x="1670" y="259"/>
                    </a:lnTo>
                    <a:lnTo>
                      <a:pt x="1621" y="330"/>
                    </a:lnTo>
                    <a:lnTo>
                      <a:pt x="1573" y="400"/>
                    </a:lnTo>
                    <a:lnTo>
                      <a:pt x="1526" y="472"/>
                    </a:lnTo>
                    <a:lnTo>
                      <a:pt x="1477" y="544"/>
                    </a:lnTo>
                    <a:lnTo>
                      <a:pt x="1429" y="616"/>
                    </a:lnTo>
                    <a:lnTo>
                      <a:pt x="1382" y="687"/>
                    </a:lnTo>
                    <a:lnTo>
                      <a:pt x="1334" y="759"/>
                    </a:lnTo>
                    <a:lnTo>
                      <a:pt x="1285" y="831"/>
                    </a:lnTo>
                    <a:lnTo>
                      <a:pt x="1238" y="903"/>
                    </a:lnTo>
                    <a:lnTo>
                      <a:pt x="1190" y="975"/>
                    </a:lnTo>
                    <a:lnTo>
                      <a:pt x="1141" y="1047"/>
                    </a:lnTo>
                    <a:lnTo>
                      <a:pt x="1094" y="1119"/>
                    </a:lnTo>
                    <a:lnTo>
                      <a:pt x="1046" y="1191"/>
                    </a:lnTo>
                    <a:lnTo>
                      <a:pt x="997" y="1262"/>
                    </a:lnTo>
                    <a:lnTo>
                      <a:pt x="950" y="1334"/>
                    </a:lnTo>
                    <a:lnTo>
                      <a:pt x="901" y="1406"/>
                    </a:lnTo>
                    <a:lnTo>
                      <a:pt x="853" y="1478"/>
                    </a:lnTo>
                    <a:lnTo>
                      <a:pt x="804" y="1548"/>
                    </a:lnTo>
                    <a:lnTo>
                      <a:pt x="756" y="1620"/>
                    </a:lnTo>
                    <a:lnTo>
                      <a:pt x="707" y="1691"/>
                    </a:lnTo>
                    <a:lnTo>
                      <a:pt x="658" y="1761"/>
                    </a:lnTo>
                    <a:lnTo>
                      <a:pt x="609" y="1832"/>
                    </a:lnTo>
                    <a:lnTo>
                      <a:pt x="560" y="1902"/>
                    </a:lnTo>
                    <a:lnTo>
                      <a:pt x="509" y="1973"/>
                    </a:lnTo>
                    <a:lnTo>
                      <a:pt x="460" y="2044"/>
                    </a:lnTo>
                    <a:lnTo>
                      <a:pt x="410" y="2113"/>
                    </a:lnTo>
                    <a:lnTo>
                      <a:pt x="360" y="2182"/>
                    </a:lnTo>
                    <a:lnTo>
                      <a:pt x="309" y="2251"/>
                    </a:lnTo>
                    <a:lnTo>
                      <a:pt x="259" y="2320"/>
                    </a:lnTo>
                    <a:lnTo>
                      <a:pt x="207" y="2389"/>
                    </a:lnTo>
                    <a:lnTo>
                      <a:pt x="196" y="2401"/>
                    </a:lnTo>
                    <a:lnTo>
                      <a:pt x="178" y="2412"/>
                    </a:lnTo>
                    <a:lnTo>
                      <a:pt x="158" y="2422"/>
                    </a:lnTo>
                    <a:lnTo>
                      <a:pt x="137" y="2432"/>
                    </a:lnTo>
                    <a:lnTo>
                      <a:pt x="113" y="2441"/>
                    </a:lnTo>
                    <a:lnTo>
                      <a:pt x="92" y="2448"/>
                    </a:lnTo>
                    <a:lnTo>
                      <a:pt x="73" y="2453"/>
                    </a:lnTo>
                    <a:lnTo>
                      <a:pt x="59" y="2454"/>
                    </a:lnTo>
                    <a:lnTo>
                      <a:pt x="29" y="2448"/>
                    </a:lnTo>
                    <a:lnTo>
                      <a:pt x="11" y="2434"/>
                    </a:lnTo>
                    <a:lnTo>
                      <a:pt x="3" y="2414"/>
                    </a:lnTo>
                    <a:lnTo>
                      <a:pt x="0" y="2388"/>
                    </a:lnTo>
                    <a:lnTo>
                      <a:pt x="1" y="2360"/>
                    </a:lnTo>
                    <a:lnTo>
                      <a:pt x="6" y="2333"/>
                    </a:lnTo>
                    <a:lnTo>
                      <a:pt x="10" y="2309"/>
                    </a:lnTo>
                    <a:lnTo>
                      <a:pt x="10" y="2288"/>
                    </a:lnTo>
                    <a:lnTo>
                      <a:pt x="60" y="2218"/>
                    </a:lnTo>
                    <a:lnTo>
                      <a:pt x="109" y="2147"/>
                    </a:lnTo>
                    <a:lnTo>
                      <a:pt x="160" y="2075"/>
                    </a:lnTo>
                    <a:lnTo>
                      <a:pt x="209" y="2005"/>
                    </a:lnTo>
                    <a:lnTo>
                      <a:pt x="259" y="1934"/>
                    </a:lnTo>
                    <a:lnTo>
                      <a:pt x="308" y="1862"/>
                    </a:lnTo>
                    <a:lnTo>
                      <a:pt x="357" y="1792"/>
                    </a:lnTo>
                    <a:lnTo>
                      <a:pt x="407" y="1720"/>
                    </a:lnTo>
                    <a:lnTo>
                      <a:pt x="456" y="1649"/>
                    </a:lnTo>
                    <a:lnTo>
                      <a:pt x="505" y="1578"/>
                    </a:lnTo>
                    <a:lnTo>
                      <a:pt x="555" y="1506"/>
                    </a:lnTo>
                    <a:lnTo>
                      <a:pt x="604" y="1436"/>
                    </a:lnTo>
                    <a:lnTo>
                      <a:pt x="653" y="1364"/>
                    </a:lnTo>
                    <a:lnTo>
                      <a:pt x="702" y="1292"/>
                    </a:lnTo>
                    <a:lnTo>
                      <a:pt x="751" y="1221"/>
                    </a:lnTo>
                    <a:lnTo>
                      <a:pt x="802" y="1149"/>
                    </a:lnTo>
                    <a:lnTo>
                      <a:pt x="851" y="1079"/>
                    </a:lnTo>
                    <a:lnTo>
                      <a:pt x="900" y="1007"/>
                    </a:lnTo>
                    <a:lnTo>
                      <a:pt x="948" y="935"/>
                    </a:lnTo>
                    <a:lnTo>
                      <a:pt x="997" y="863"/>
                    </a:lnTo>
                    <a:lnTo>
                      <a:pt x="1045" y="792"/>
                    </a:lnTo>
                    <a:lnTo>
                      <a:pt x="1094" y="720"/>
                    </a:lnTo>
                    <a:lnTo>
                      <a:pt x="1143" y="648"/>
                    </a:lnTo>
                    <a:lnTo>
                      <a:pt x="1192" y="576"/>
                    </a:lnTo>
                    <a:lnTo>
                      <a:pt x="1241" y="504"/>
                    </a:lnTo>
                    <a:lnTo>
                      <a:pt x="1288" y="432"/>
                    </a:lnTo>
                    <a:lnTo>
                      <a:pt x="1337" y="360"/>
                    </a:lnTo>
                    <a:lnTo>
                      <a:pt x="1386" y="288"/>
                    </a:lnTo>
                    <a:lnTo>
                      <a:pt x="1434" y="216"/>
                    </a:lnTo>
                    <a:lnTo>
                      <a:pt x="1483" y="144"/>
                    </a:lnTo>
                    <a:lnTo>
                      <a:pt x="1532" y="72"/>
                    </a:lnTo>
                    <a:lnTo>
                      <a:pt x="1579" y="0"/>
                    </a:lnTo>
                    <a:lnTo>
                      <a:pt x="1601" y="117"/>
                    </a:lnTo>
                    <a:lnTo>
                      <a:pt x="1766" y="117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任意多边形 60464"/>
              <p:cNvSpPr/>
              <p:nvPr/>
            </p:nvSpPr>
            <p:spPr>
              <a:xfrm>
                <a:off x="9367920" y="5577120"/>
                <a:ext cx="664920" cy="910800"/>
              </a:xfrm>
              <a:custGeom>
                <a:avLst/>
                <a:gdLst/>
                <a:ahLst/>
                <a:rect l="l" t="t" r="r" b="b"/>
                <a:pathLst>
                  <a:path w="1579" h="2286">
                    <a:moveTo>
                      <a:pt x="20" y="2286"/>
                    </a:moveTo>
                    <a:lnTo>
                      <a:pt x="20" y="2286"/>
                    </a:lnTo>
                    <a:lnTo>
                      <a:pt x="72" y="2217"/>
                    </a:lnTo>
                    <a:lnTo>
                      <a:pt x="122" y="2148"/>
                    </a:lnTo>
                    <a:lnTo>
                      <a:pt x="173" y="2079"/>
                    </a:lnTo>
                    <a:lnTo>
                      <a:pt x="223" y="2010"/>
                    </a:lnTo>
                    <a:lnTo>
                      <a:pt x="274" y="1941"/>
                    </a:lnTo>
                    <a:lnTo>
                      <a:pt x="322" y="1870"/>
                    </a:lnTo>
                    <a:lnTo>
                      <a:pt x="373" y="1800"/>
                    </a:lnTo>
                    <a:lnTo>
                      <a:pt x="422" y="1729"/>
                    </a:lnTo>
                    <a:lnTo>
                      <a:pt x="471" y="1659"/>
                    </a:lnTo>
                    <a:lnTo>
                      <a:pt x="520" y="1588"/>
                    </a:lnTo>
                    <a:lnTo>
                      <a:pt x="569" y="1517"/>
                    </a:lnTo>
                    <a:lnTo>
                      <a:pt x="618" y="1445"/>
                    </a:lnTo>
                    <a:lnTo>
                      <a:pt x="667" y="1375"/>
                    </a:lnTo>
                    <a:lnTo>
                      <a:pt x="714" y="1303"/>
                    </a:lnTo>
                    <a:lnTo>
                      <a:pt x="763" y="1231"/>
                    </a:lnTo>
                    <a:lnTo>
                      <a:pt x="810" y="1159"/>
                    </a:lnTo>
                    <a:lnTo>
                      <a:pt x="859" y="1088"/>
                    </a:lnTo>
                    <a:lnTo>
                      <a:pt x="907" y="1016"/>
                    </a:lnTo>
                    <a:lnTo>
                      <a:pt x="954" y="944"/>
                    </a:lnTo>
                    <a:lnTo>
                      <a:pt x="1003" y="872"/>
                    </a:lnTo>
                    <a:lnTo>
                      <a:pt x="1051" y="800"/>
                    </a:lnTo>
                    <a:lnTo>
                      <a:pt x="1098" y="728"/>
                    </a:lnTo>
                    <a:lnTo>
                      <a:pt x="1147" y="656"/>
                    </a:lnTo>
                    <a:lnTo>
                      <a:pt x="1195" y="584"/>
                    </a:lnTo>
                    <a:lnTo>
                      <a:pt x="1242" y="514"/>
                    </a:lnTo>
                    <a:lnTo>
                      <a:pt x="1290" y="442"/>
                    </a:lnTo>
                    <a:lnTo>
                      <a:pt x="1339" y="370"/>
                    </a:lnTo>
                    <a:lnTo>
                      <a:pt x="1386" y="298"/>
                    </a:lnTo>
                    <a:lnTo>
                      <a:pt x="1434" y="227"/>
                    </a:lnTo>
                    <a:lnTo>
                      <a:pt x="1483" y="157"/>
                    </a:lnTo>
                    <a:lnTo>
                      <a:pt x="1530" y="85"/>
                    </a:lnTo>
                    <a:lnTo>
                      <a:pt x="1579" y="14"/>
                    </a:lnTo>
                    <a:lnTo>
                      <a:pt x="1559" y="0"/>
                    </a:lnTo>
                    <a:lnTo>
                      <a:pt x="1510" y="70"/>
                    </a:lnTo>
                    <a:lnTo>
                      <a:pt x="1463" y="142"/>
                    </a:lnTo>
                    <a:lnTo>
                      <a:pt x="1414" y="213"/>
                    </a:lnTo>
                    <a:lnTo>
                      <a:pt x="1366" y="283"/>
                    </a:lnTo>
                    <a:lnTo>
                      <a:pt x="1319" y="355"/>
                    </a:lnTo>
                    <a:lnTo>
                      <a:pt x="1270" y="427"/>
                    </a:lnTo>
                    <a:lnTo>
                      <a:pt x="1222" y="499"/>
                    </a:lnTo>
                    <a:lnTo>
                      <a:pt x="1175" y="570"/>
                    </a:lnTo>
                    <a:lnTo>
                      <a:pt x="1127" y="642"/>
                    </a:lnTo>
                    <a:lnTo>
                      <a:pt x="1078" y="714"/>
                    </a:lnTo>
                    <a:lnTo>
                      <a:pt x="1031" y="786"/>
                    </a:lnTo>
                    <a:lnTo>
                      <a:pt x="983" y="858"/>
                    </a:lnTo>
                    <a:lnTo>
                      <a:pt x="934" y="930"/>
                    </a:lnTo>
                    <a:lnTo>
                      <a:pt x="887" y="1002"/>
                    </a:lnTo>
                    <a:lnTo>
                      <a:pt x="839" y="1074"/>
                    </a:lnTo>
                    <a:lnTo>
                      <a:pt x="790" y="1144"/>
                    </a:lnTo>
                    <a:lnTo>
                      <a:pt x="743" y="1216"/>
                    </a:lnTo>
                    <a:lnTo>
                      <a:pt x="694" y="1288"/>
                    </a:lnTo>
                    <a:lnTo>
                      <a:pt x="646" y="1360"/>
                    </a:lnTo>
                    <a:lnTo>
                      <a:pt x="597" y="1431"/>
                    </a:lnTo>
                    <a:lnTo>
                      <a:pt x="548" y="1503"/>
                    </a:lnTo>
                    <a:lnTo>
                      <a:pt x="500" y="1574"/>
                    </a:lnTo>
                    <a:lnTo>
                      <a:pt x="451" y="1644"/>
                    </a:lnTo>
                    <a:lnTo>
                      <a:pt x="402" y="1715"/>
                    </a:lnTo>
                    <a:lnTo>
                      <a:pt x="353" y="1785"/>
                    </a:lnTo>
                    <a:lnTo>
                      <a:pt x="302" y="1856"/>
                    </a:lnTo>
                    <a:lnTo>
                      <a:pt x="253" y="1926"/>
                    </a:lnTo>
                    <a:lnTo>
                      <a:pt x="203" y="1996"/>
                    </a:lnTo>
                    <a:lnTo>
                      <a:pt x="153" y="2065"/>
                    </a:lnTo>
                    <a:lnTo>
                      <a:pt x="102" y="2134"/>
                    </a:lnTo>
                    <a:lnTo>
                      <a:pt x="52" y="2203"/>
                    </a:lnTo>
                    <a:lnTo>
                      <a:pt x="0" y="2272"/>
                    </a:lnTo>
                    <a:lnTo>
                      <a:pt x="0" y="2272"/>
                    </a:lnTo>
                    <a:lnTo>
                      <a:pt x="20" y="2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任意多边形 60465"/>
              <p:cNvSpPr/>
              <p:nvPr/>
            </p:nvSpPr>
            <p:spPr>
              <a:xfrm>
                <a:off x="9309960" y="6482520"/>
                <a:ext cx="66240" cy="33840"/>
              </a:xfrm>
              <a:custGeom>
                <a:avLst/>
                <a:gdLst/>
                <a:ahLst/>
                <a:rect l="l" t="t" r="r" b="b"/>
                <a:pathLst>
                  <a:path w="158" h="85">
                    <a:moveTo>
                      <a:pt x="0" y="85"/>
                    </a:moveTo>
                    <a:lnTo>
                      <a:pt x="0" y="85"/>
                    </a:lnTo>
                    <a:lnTo>
                      <a:pt x="16" y="84"/>
                    </a:lnTo>
                    <a:lnTo>
                      <a:pt x="36" y="79"/>
                    </a:lnTo>
                    <a:lnTo>
                      <a:pt x="59" y="71"/>
                    </a:lnTo>
                    <a:lnTo>
                      <a:pt x="82" y="62"/>
                    </a:lnTo>
                    <a:lnTo>
                      <a:pt x="105" y="52"/>
                    </a:lnTo>
                    <a:lnTo>
                      <a:pt x="125" y="42"/>
                    </a:lnTo>
                    <a:lnTo>
                      <a:pt x="144" y="29"/>
                    </a:lnTo>
                    <a:lnTo>
                      <a:pt x="158" y="14"/>
                    </a:lnTo>
                    <a:lnTo>
                      <a:pt x="138" y="0"/>
                    </a:lnTo>
                    <a:lnTo>
                      <a:pt x="129" y="9"/>
                    </a:lnTo>
                    <a:lnTo>
                      <a:pt x="114" y="19"/>
                    </a:lnTo>
                    <a:lnTo>
                      <a:pt x="93" y="29"/>
                    </a:lnTo>
                    <a:lnTo>
                      <a:pt x="73" y="39"/>
                    </a:lnTo>
                    <a:lnTo>
                      <a:pt x="50" y="48"/>
                    </a:lnTo>
                    <a:lnTo>
                      <a:pt x="30" y="53"/>
                    </a:lnTo>
                    <a:lnTo>
                      <a:pt x="13" y="5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任意多边形 60466"/>
              <p:cNvSpPr/>
              <p:nvPr/>
            </p:nvSpPr>
            <p:spPr>
              <a:xfrm>
                <a:off x="9279720" y="6440040"/>
                <a:ext cx="30240" cy="76320"/>
              </a:xfrm>
              <a:custGeom>
                <a:avLst/>
                <a:gdLst/>
                <a:ahLst/>
                <a:rect l="l" t="t" r="r" b="b"/>
                <a:pathLst>
                  <a:path w="72" h="192">
                    <a:moveTo>
                      <a:pt x="13" y="6"/>
                    </a:moveTo>
                    <a:lnTo>
                      <a:pt x="10" y="13"/>
                    </a:lnTo>
                    <a:lnTo>
                      <a:pt x="10" y="34"/>
                    </a:lnTo>
                    <a:lnTo>
                      <a:pt x="6" y="57"/>
                    </a:lnTo>
                    <a:lnTo>
                      <a:pt x="1" y="85"/>
                    </a:lnTo>
                    <a:lnTo>
                      <a:pt x="0" y="113"/>
                    </a:lnTo>
                    <a:lnTo>
                      <a:pt x="3" y="142"/>
                    </a:lnTo>
                    <a:lnTo>
                      <a:pt x="14" y="166"/>
                    </a:lnTo>
                    <a:lnTo>
                      <a:pt x="37" y="185"/>
                    </a:lnTo>
                    <a:lnTo>
                      <a:pt x="72" y="192"/>
                    </a:lnTo>
                    <a:lnTo>
                      <a:pt x="72" y="166"/>
                    </a:lnTo>
                    <a:lnTo>
                      <a:pt x="46" y="162"/>
                    </a:lnTo>
                    <a:lnTo>
                      <a:pt x="34" y="152"/>
                    </a:lnTo>
                    <a:lnTo>
                      <a:pt x="29" y="136"/>
                    </a:lnTo>
                    <a:lnTo>
                      <a:pt x="26" y="113"/>
                    </a:lnTo>
                    <a:lnTo>
                      <a:pt x="27" y="85"/>
                    </a:lnTo>
                    <a:lnTo>
                      <a:pt x="31" y="60"/>
                    </a:lnTo>
                    <a:lnTo>
                      <a:pt x="36" y="34"/>
                    </a:lnTo>
                    <a:lnTo>
                      <a:pt x="36" y="13"/>
                    </a:lnTo>
                    <a:lnTo>
                      <a:pt x="33" y="21"/>
                    </a:lnTo>
                    <a:lnTo>
                      <a:pt x="36" y="13"/>
                    </a:lnTo>
                    <a:lnTo>
                      <a:pt x="31" y="3"/>
                    </a:lnTo>
                    <a:lnTo>
                      <a:pt x="23" y="0"/>
                    </a:lnTo>
                    <a:lnTo>
                      <a:pt x="14" y="3"/>
                    </a:lnTo>
                    <a:lnTo>
                      <a:pt x="10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任意多边形 60467"/>
              <p:cNvSpPr/>
              <p:nvPr/>
            </p:nvSpPr>
            <p:spPr>
              <a:xfrm>
                <a:off x="9285120" y="5528160"/>
                <a:ext cx="670320" cy="920160"/>
              </a:xfrm>
              <a:custGeom>
                <a:avLst/>
                <a:gdLst/>
                <a:ahLst/>
                <a:rect l="l" t="t" r="r" b="b"/>
                <a:pathLst>
                  <a:path w="1592" h="2309">
                    <a:moveTo>
                      <a:pt x="1592" y="12"/>
                    </a:moveTo>
                    <a:lnTo>
                      <a:pt x="1569" y="6"/>
                    </a:lnTo>
                    <a:lnTo>
                      <a:pt x="1521" y="78"/>
                    </a:lnTo>
                    <a:lnTo>
                      <a:pt x="1472" y="150"/>
                    </a:lnTo>
                    <a:lnTo>
                      <a:pt x="1424" y="222"/>
                    </a:lnTo>
                    <a:lnTo>
                      <a:pt x="1376" y="294"/>
                    </a:lnTo>
                    <a:lnTo>
                      <a:pt x="1327" y="366"/>
                    </a:lnTo>
                    <a:lnTo>
                      <a:pt x="1278" y="438"/>
                    </a:lnTo>
                    <a:lnTo>
                      <a:pt x="1231" y="510"/>
                    </a:lnTo>
                    <a:lnTo>
                      <a:pt x="1182" y="582"/>
                    </a:lnTo>
                    <a:lnTo>
                      <a:pt x="1133" y="654"/>
                    </a:lnTo>
                    <a:lnTo>
                      <a:pt x="1084" y="726"/>
                    </a:lnTo>
                    <a:lnTo>
                      <a:pt x="1035" y="798"/>
                    </a:lnTo>
                    <a:lnTo>
                      <a:pt x="987" y="869"/>
                    </a:lnTo>
                    <a:lnTo>
                      <a:pt x="938" y="941"/>
                    </a:lnTo>
                    <a:lnTo>
                      <a:pt x="889" y="1013"/>
                    </a:lnTo>
                    <a:lnTo>
                      <a:pt x="840" y="1085"/>
                    </a:lnTo>
                    <a:lnTo>
                      <a:pt x="792" y="1155"/>
                    </a:lnTo>
                    <a:lnTo>
                      <a:pt x="741" y="1227"/>
                    </a:lnTo>
                    <a:lnTo>
                      <a:pt x="692" y="1298"/>
                    </a:lnTo>
                    <a:lnTo>
                      <a:pt x="643" y="1370"/>
                    </a:lnTo>
                    <a:lnTo>
                      <a:pt x="594" y="1442"/>
                    </a:lnTo>
                    <a:lnTo>
                      <a:pt x="545" y="1512"/>
                    </a:lnTo>
                    <a:lnTo>
                      <a:pt x="495" y="1584"/>
                    </a:lnTo>
                    <a:lnTo>
                      <a:pt x="446" y="1655"/>
                    </a:lnTo>
                    <a:lnTo>
                      <a:pt x="397" y="1725"/>
                    </a:lnTo>
                    <a:lnTo>
                      <a:pt x="347" y="1797"/>
                    </a:lnTo>
                    <a:lnTo>
                      <a:pt x="298" y="1868"/>
                    </a:lnTo>
                    <a:lnTo>
                      <a:pt x="249" y="1940"/>
                    </a:lnTo>
                    <a:lnTo>
                      <a:pt x="198" y="2011"/>
                    </a:lnTo>
                    <a:lnTo>
                      <a:pt x="149" y="2081"/>
                    </a:lnTo>
                    <a:lnTo>
                      <a:pt x="99" y="2153"/>
                    </a:lnTo>
                    <a:lnTo>
                      <a:pt x="50" y="2224"/>
                    </a:lnTo>
                    <a:lnTo>
                      <a:pt x="0" y="2294"/>
                    </a:lnTo>
                    <a:lnTo>
                      <a:pt x="20" y="2309"/>
                    </a:lnTo>
                    <a:lnTo>
                      <a:pt x="70" y="2238"/>
                    </a:lnTo>
                    <a:lnTo>
                      <a:pt x="119" y="2167"/>
                    </a:lnTo>
                    <a:lnTo>
                      <a:pt x="170" y="2095"/>
                    </a:lnTo>
                    <a:lnTo>
                      <a:pt x="219" y="2025"/>
                    </a:lnTo>
                    <a:lnTo>
                      <a:pt x="269" y="1954"/>
                    </a:lnTo>
                    <a:lnTo>
                      <a:pt x="318" y="1882"/>
                    </a:lnTo>
                    <a:lnTo>
                      <a:pt x="367" y="1812"/>
                    </a:lnTo>
                    <a:lnTo>
                      <a:pt x="417" y="1740"/>
                    </a:lnTo>
                    <a:lnTo>
                      <a:pt x="466" y="1669"/>
                    </a:lnTo>
                    <a:lnTo>
                      <a:pt x="515" y="1599"/>
                    </a:lnTo>
                    <a:lnTo>
                      <a:pt x="566" y="1527"/>
                    </a:lnTo>
                    <a:lnTo>
                      <a:pt x="614" y="1456"/>
                    </a:lnTo>
                    <a:lnTo>
                      <a:pt x="663" y="1384"/>
                    </a:lnTo>
                    <a:lnTo>
                      <a:pt x="712" y="1312"/>
                    </a:lnTo>
                    <a:lnTo>
                      <a:pt x="761" y="1242"/>
                    </a:lnTo>
                    <a:lnTo>
                      <a:pt x="812" y="1170"/>
                    </a:lnTo>
                    <a:lnTo>
                      <a:pt x="861" y="1099"/>
                    </a:lnTo>
                    <a:lnTo>
                      <a:pt x="910" y="1027"/>
                    </a:lnTo>
                    <a:lnTo>
                      <a:pt x="959" y="955"/>
                    </a:lnTo>
                    <a:lnTo>
                      <a:pt x="1007" y="883"/>
                    </a:lnTo>
                    <a:lnTo>
                      <a:pt x="1055" y="812"/>
                    </a:lnTo>
                    <a:lnTo>
                      <a:pt x="1104" y="740"/>
                    </a:lnTo>
                    <a:lnTo>
                      <a:pt x="1153" y="668"/>
                    </a:lnTo>
                    <a:lnTo>
                      <a:pt x="1202" y="596"/>
                    </a:lnTo>
                    <a:lnTo>
                      <a:pt x="1251" y="524"/>
                    </a:lnTo>
                    <a:lnTo>
                      <a:pt x="1298" y="452"/>
                    </a:lnTo>
                    <a:lnTo>
                      <a:pt x="1347" y="380"/>
                    </a:lnTo>
                    <a:lnTo>
                      <a:pt x="1396" y="308"/>
                    </a:lnTo>
                    <a:lnTo>
                      <a:pt x="1444" y="236"/>
                    </a:lnTo>
                    <a:lnTo>
                      <a:pt x="1493" y="164"/>
                    </a:lnTo>
                    <a:lnTo>
                      <a:pt x="1542" y="92"/>
                    </a:lnTo>
                    <a:lnTo>
                      <a:pt x="1589" y="20"/>
                    </a:lnTo>
                    <a:lnTo>
                      <a:pt x="1566" y="15"/>
                    </a:lnTo>
                    <a:lnTo>
                      <a:pt x="1589" y="20"/>
                    </a:lnTo>
                    <a:lnTo>
                      <a:pt x="1591" y="10"/>
                    </a:lnTo>
                    <a:lnTo>
                      <a:pt x="1586" y="3"/>
                    </a:lnTo>
                    <a:lnTo>
                      <a:pt x="1578" y="0"/>
                    </a:lnTo>
                    <a:lnTo>
                      <a:pt x="1569" y="6"/>
                    </a:lnTo>
                    <a:lnTo>
                      <a:pt x="159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任意多边形 60468"/>
              <p:cNvSpPr/>
              <p:nvPr/>
            </p:nvSpPr>
            <p:spPr>
              <a:xfrm>
                <a:off x="9944640" y="5532840"/>
                <a:ext cx="19800" cy="52200"/>
              </a:xfrm>
              <a:custGeom>
                <a:avLst/>
                <a:gdLst/>
                <a:ahLst/>
                <a:rect l="l" t="t" r="r" b="b"/>
                <a:pathLst>
                  <a:path w="48" h="131">
                    <a:moveTo>
                      <a:pt x="35" y="105"/>
                    </a:moveTo>
                    <a:lnTo>
                      <a:pt x="48" y="116"/>
                    </a:lnTo>
                    <a:lnTo>
                      <a:pt x="26" y="0"/>
                    </a:lnTo>
                    <a:lnTo>
                      <a:pt x="0" y="3"/>
                    </a:lnTo>
                    <a:lnTo>
                      <a:pt x="22" y="119"/>
                    </a:lnTo>
                    <a:lnTo>
                      <a:pt x="35" y="131"/>
                    </a:lnTo>
                    <a:lnTo>
                      <a:pt x="22" y="119"/>
                    </a:lnTo>
                    <a:lnTo>
                      <a:pt x="26" y="128"/>
                    </a:lnTo>
                    <a:lnTo>
                      <a:pt x="36" y="131"/>
                    </a:lnTo>
                    <a:lnTo>
                      <a:pt x="45" y="126"/>
                    </a:lnTo>
                    <a:lnTo>
                      <a:pt x="48" y="116"/>
                    </a:lnTo>
                    <a:lnTo>
                      <a:pt x="3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任意多边形 60469"/>
              <p:cNvSpPr/>
              <p:nvPr/>
            </p:nvSpPr>
            <p:spPr>
              <a:xfrm>
                <a:off x="9959400" y="5574600"/>
                <a:ext cx="74880" cy="10080"/>
              </a:xfrm>
              <a:custGeom>
                <a:avLst/>
                <a:gdLst/>
                <a:ahLst/>
                <a:rect l="l" t="t" r="r" b="b"/>
                <a:pathLst>
                  <a:path w="178" h="26">
                    <a:moveTo>
                      <a:pt x="175" y="20"/>
                    </a:moveTo>
                    <a:lnTo>
                      <a:pt x="165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165" y="26"/>
                    </a:lnTo>
                    <a:lnTo>
                      <a:pt x="155" y="6"/>
                    </a:lnTo>
                    <a:lnTo>
                      <a:pt x="165" y="26"/>
                    </a:lnTo>
                    <a:lnTo>
                      <a:pt x="175" y="21"/>
                    </a:lnTo>
                    <a:lnTo>
                      <a:pt x="178" y="13"/>
                    </a:lnTo>
                    <a:lnTo>
                      <a:pt x="175" y="4"/>
                    </a:lnTo>
                    <a:lnTo>
                      <a:pt x="165" y="0"/>
                    </a:lnTo>
                    <a:lnTo>
                      <a:pt x="17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任意多边形 60470"/>
              <p:cNvSpPr/>
              <p:nvPr/>
            </p:nvSpPr>
            <p:spPr>
              <a:xfrm>
                <a:off x="9293760" y="5571000"/>
                <a:ext cx="738000" cy="941400"/>
              </a:xfrm>
              <a:custGeom>
                <a:avLst/>
                <a:gdLst/>
                <a:ahLst/>
                <a:rect l="l" t="t" r="r" b="b"/>
                <a:pathLst>
                  <a:path w="1752" h="2363">
                    <a:moveTo>
                      <a:pt x="1752" y="0"/>
                    </a:moveTo>
                    <a:lnTo>
                      <a:pt x="1703" y="71"/>
                    </a:lnTo>
                    <a:lnTo>
                      <a:pt x="1653" y="143"/>
                    </a:lnTo>
                    <a:lnTo>
                      <a:pt x="1604" y="213"/>
                    </a:lnTo>
                    <a:lnTo>
                      <a:pt x="1555" y="285"/>
                    </a:lnTo>
                    <a:lnTo>
                      <a:pt x="1505" y="356"/>
                    </a:lnTo>
                    <a:lnTo>
                      <a:pt x="1456" y="428"/>
                    </a:lnTo>
                    <a:lnTo>
                      <a:pt x="1407" y="498"/>
                    </a:lnTo>
                    <a:lnTo>
                      <a:pt x="1358" y="570"/>
                    </a:lnTo>
                    <a:lnTo>
                      <a:pt x="1309" y="642"/>
                    </a:lnTo>
                    <a:lnTo>
                      <a:pt x="1260" y="713"/>
                    </a:lnTo>
                    <a:lnTo>
                      <a:pt x="1211" y="785"/>
                    </a:lnTo>
                    <a:lnTo>
                      <a:pt x="1164" y="857"/>
                    </a:lnTo>
                    <a:lnTo>
                      <a:pt x="1115" y="929"/>
                    </a:lnTo>
                    <a:lnTo>
                      <a:pt x="1066" y="1000"/>
                    </a:lnTo>
                    <a:lnTo>
                      <a:pt x="1017" y="1072"/>
                    </a:lnTo>
                    <a:lnTo>
                      <a:pt x="969" y="1144"/>
                    </a:lnTo>
                    <a:lnTo>
                      <a:pt x="920" y="1216"/>
                    </a:lnTo>
                    <a:lnTo>
                      <a:pt x="871" y="1288"/>
                    </a:lnTo>
                    <a:lnTo>
                      <a:pt x="822" y="1360"/>
                    </a:lnTo>
                    <a:lnTo>
                      <a:pt x="775" y="1430"/>
                    </a:lnTo>
                    <a:lnTo>
                      <a:pt x="726" y="1502"/>
                    </a:lnTo>
                    <a:lnTo>
                      <a:pt x="678" y="1574"/>
                    </a:lnTo>
                    <a:lnTo>
                      <a:pt x="629" y="1646"/>
                    </a:lnTo>
                    <a:lnTo>
                      <a:pt x="581" y="1718"/>
                    </a:lnTo>
                    <a:lnTo>
                      <a:pt x="533" y="1790"/>
                    </a:lnTo>
                    <a:lnTo>
                      <a:pt x="484" y="1861"/>
                    </a:lnTo>
                    <a:lnTo>
                      <a:pt x="435" y="1933"/>
                    </a:lnTo>
                    <a:lnTo>
                      <a:pt x="388" y="2005"/>
                    </a:lnTo>
                    <a:lnTo>
                      <a:pt x="339" y="2077"/>
                    </a:lnTo>
                    <a:lnTo>
                      <a:pt x="290" y="2149"/>
                    </a:lnTo>
                    <a:lnTo>
                      <a:pt x="242" y="2219"/>
                    </a:lnTo>
                    <a:lnTo>
                      <a:pt x="193" y="2291"/>
                    </a:lnTo>
                    <a:lnTo>
                      <a:pt x="58" y="2363"/>
                    </a:lnTo>
                    <a:lnTo>
                      <a:pt x="22" y="2355"/>
                    </a:lnTo>
                    <a:lnTo>
                      <a:pt x="0" y="2330"/>
                    </a:lnTo>
                    <a:lnTo>
                      <a:pt x="1616" y="0"/>
                    </a:lnTo>
                    <a:lnTo>
                      <a:pt x="175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任意多边形 60471"/>
              <p:cNvSpPr/>
              <p:nvPr/>
            </p:nvSpPr>
            <p:spPr>
              <a:xfrm>
                <a:off x="9293760" y="5571000"/>
                <a:ext cx="738000" cy="941400"/>
              </a:xfrm>
              <a:custGeom>
                <a:avLst/>
                <a:gdLst/>
                <a:ahLst/>
                <a:rect l="l" t="t" r="r" b="b"/>
                <a:pathLst>
                  <a:path w="1752" h="2363">
                    <a:moveTo>
                      <a:pt x="1752" y="0"/>
                    </a:moveTo>
                    <a:lnTo>
                      <a:pt x="1752" y="0"/>
                    </a:lnTo>
                    <a:lnTo>
                      <a:pt x="1703" y="71"/>
                    </a:lnTo>
                    <a:lnTo>
                      <a:pt x="1653" y="143"/>
                    </a:lnTo>
                    <a:lnTo>
                      <a:pt x="1604" y="213"/>
                    </a:lnTo>
                    <a:lnTo>
                      <a:pt x="1555" y="285"/>
                    </a:lnTo>
                    <a:lnTo>
                      <a:pt x="1505" y="356"/>
                    </a:lnTo>
                    <a:lnTo>
                      <a:pt x="1456" y="428"/>
                    </a:lnTo>
                    <a:lnTo>
                      <a:pt x="1407" y="498"/>
                    </a:lnTo>
                    <a:lnTo>
                      <a:pt x="1358" y="570"/>
                    </a:lnTo>
                    <a:lnTo>
                      <a:pt x="1309" y="642"/>
                    </a:lnTo>
                    <a:lnTo>
                      <a:pt x="1260" y="713"/>
                    </a:lnTo>
                    <a:lnTo>
                      <a:pt x="1211" y="785"/>
                    </a:lnTo>
                    <a:lnTo>
                      <a:pt x="1164" y="857"/>
                    </a:lnTo>
                    <a:lnTo>
                      <a:pt x="1115" y="929"/>
                    </a:lnTo>
                    <a:lnTo>
                      <a:pt x="1066" y="1000"/>
                    </a:lnTo>
                    <a:lnTo>
                      <a:pt x="1017" y="1072"/>
                    </a:lnTo>
                    <a:lnTo>
                      <a:pt x="969" y="1144"/>
                    </a:lnTo>
                    <a:lnTo>
                      <a:pt x="920" y="1216"/>
                    </a:lnTo>
                    <a:lnTo>
                      <a:pt x="871" y="1288"/>
                    </a:lnTo>
                    <a:lnTo>
                      <a:pt x="822" y="1360"/>
                    </a:lnTo>
                    <a:lnTo>
                      <a:pt x="775" y="1430"/>
                    </a:lnTo>
                    <a:lnTo>
                      <a:pt x="726" y="1502"/>
                    </a:lnTo>
                    <a:lnTo>
                      <a:pt x="678" y="1574"/>
                    </a:lnTo>
                    <a:lnTo>
                      <a:pt x="629" y="1646"/>
                    </a:lnTo>
                    <a:lnTo>
                      <a:pt x="581" y="1718"/>
                    </a:lnTo>
                    <a:lnTo>
                      <a:pt x="533" y="1790"/>
                    </a:lnTo>
                    <a:lnTo>
                      <a:pt x="484" y="1861"/>
                    </a:lnTo>
                    <a:lnTo>
                      <a:pt x="435" y="1933"/>
                    </a:lnTo>
                    <a:lnTo>
                      <a:pt x="388" y="2005"/>
                    </a:lnTo>
                    <a:lnTo>
                      <a:pt x="339" y="2077"/>
                    </a:lnTo>
                    <a:lnTo>
                      <a:pt x="290" y="2149"/>
                    </a:lnTo>
                    <a:lnTo>
                      <a:pt x="242" y="2219"/>
                    </a:lnTo>
                    <a:lnTo>
                      <a:pt x="193" y="2291"/>
                    </a:lnTo>
                    <a:lnTo>
                      <a:pt x="58" y="2363"/>
                    </a:lnTo>
                    <a:lnTo>
                      <a:pt x="22" y="2355"/>
                    </a:lnTo>
                    <a:lnTo>
                      <a:pt x="0" y="2330"/>
                    </a:lnTo>
                    <a:lnTo>
                      <a:pt x="1616" y="0"/>
                    </a:lnTo>
                    <a:lnTo>
                      <a:pt x="1752" y="0"/>
                    </a:lnTo>
                  </a:path>
                </a:pathLst>
              </a:custGeom>
              <a:noFill/>
              <a:ln w="0">
                <a:solidFill>
                  <a:srgbClr val="a5a5a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任意多边形 60472"/>
              <p:cNvSpPr/>
              <p:nvPr/>
            </p:nvSpPr>
            <p:spPr>
              <a:xfrm>
                <a:off x="9942840" y="5475960"/>
                <a:ext cx="126000" cy="122400"/>
              </a:xfrm>
              <a:custGeom>
                <a:avLst/>
                <a:gdLst/>
                <a:ahLst/>
                <a:rect l="l" t="t" r="r" b="b"/>
                <a:pathLst>
                  <a:path w="299" h="308">
                    <a:moveTo>
                      <a:pt x="188" y="285"/>
                    </a:moveTo>
                    <a:lnTo>
                      <a:pt x="299" y="78"/>
                    </a:lnTo>
                    <a:lnTo>
                      <a:pt x="180" y="81"/>
                    </a:lnTo>
                    <a:lnTo>
                      <a:pt x="152" y="0"/>
                    </a:lnTo>
                    <a:lnTo>
                      <a:pt x="0" y="169"/>
                    </a:lnTo>
                    <a:lnTo>
                      <a:pt x="16" y="177"/>
                    </a:lnTo>
                    <a:lnTo>
                      <a:pt x="31" y="205"/>
                    </a:lnTo>
                    <a:lnTo>
                      <a:pt x="3" y="256"/>
                    </a:lnTo>
                    <a:lnTo>
                      <a:pt x="20" y="259"/>
                    </a:lnTo>
                    <a:lnTo>
                      <a:pt x="34" y="261"/>
                    </a:lnTo>
                    <a:lnTo>
                      <a:pt x="46" y="262"/>
                    </a:lnTo>
                    <a:lnTo>
                      <a:pt x="56" y="264"/>
                    </a:lnTo>
                    <a:lnTo>
                      <a:pt x="62" y="268"/>
                    </a:lnTo>
                    <a:lnTo>
                      <a:pt x="67" y="274"/>
                    </a:lnTo>
                    <a:lnTo>
                      <a:pt x="72" y="285"/>
                    </a:lnTo>
                    <a:lnTo>
                      <a:pt x="75" y="301"/>
                    </a:lnTo>
                    <a:lnTo>
                      <a:pt x="76" y="304"/>
                    </a:lnTo>
                    <a:lnTo>
                      <a:pt x="79" y="307"/>
                    </a:lnTo>
                    <a:lnTo>
                      <a:pt x="82" y="308"/>
                    </a:lnTo>
                    <a:lnTo>
                      <a:pt x="86" y="308"/>
                    </a:lnTo>
                    <a:lnTo>
                      <a:pt x="141" y="274"/>
                    </a:lnTo>
                    <a:lnTo>
                      <a:pt x="145" y="274"/>
                    </a:lnTo>
                    <a:lnTo>
                      <a:pt x="151" y="274"/>
                    </a:lnTo>
                    <a:lnTo>
                      <a:pt x="158" y="275"/>
                    </a:lnTo>
                    <a:lnTo>
                      <a:pt x="167" y="277"/>
                    </a:lnTo>
                    <a:lnTo>
                      <a:pt x="174" y="279"/>
                    </a:lnTo>
                    <a:lnTo>
                      <a:pt x="181" y="281"/>
                    </a:lnTo>
                    <a:lnTo>
                      <a:pt x="185" y="284"/>
                    </a:lnTo>
                    <a:lnTo>
                      <a:pt x="188" y="28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任意多边形 60473"/>
              <p:cNvSpPr/>
              <p:nvPr/>
            </p:nvSpPr>
            <p:spPr>
              <a:xfrm>
                <a:off x="10018800" y="5502960"/>
                <a:ext cx="53640" cy="88200"/>
              </a:xfrm>
              <a:custGeom>
                <a:avLst/>
                <a:gdLst/>
                <a:ahLst/>
                <a:rect l="l" t="t" r="r" b="b"/>
                <a:pathLst>
                  <a:path w="128" h="222">
                    <a:moveTo>
                      <a:pt x="119" y="19"/>
                    </a:moveTo>
                    <a:lnTo>
                      <a:pt x="111" y="6"/>
                    </a:lnTo>
                    <a:lnTo>
                      <a:pt x="0" y="213"/>
                    </a:lnTo>
                    <a:lnTo>
                      <a:pt x="17" y="222"/>
                    </a:lnTo>
                    <a:lnTo>
                      <a:pt x="128" y="14"/>
                    </a:lnTo>
                    <a:lnTo>
                      <a:pt x="119" y="1"/>
                    </a:lnTo>
                    <a:lnTo>
                      <a:pt x="128" y="14"/>
                    </a:lnTo>
                    <a:lnTo>
                      <a:pt x="128" y="7"/>
                    </a:lnTo>
                    <a:lnTo>
                      <a:pt x="123" y="1"/>
                    </a:lnTo>
                    <a:lnTo>
                      <a:pt x="116" y="0"/>
                    </a:lnTo>
                    <a:lnTo>
                      <a:pt x="111" y="6"/>
                    </a:lnTo>
                    <a:lnTo>
                      <a:pt x="1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60474"/>
              <p:cNvSpPr/>
              <p:nvPr/>
            </p:nvSpPr>
            <p:spPr>
              <a:xfrm>
                <a:off x="10014480" y="5503320"/>
                <a:ext cx="54000" cy="8640"/>
              </a:xfrm>
              <a:custGeom>
                <a:avLst/>
                <a:gdLst/>
                <a:ahLst/>
                <a:rect l="l" t="t" r="r" b="b"/>
                <a:pathLst>
                  <a:path w="129" h="22">
                    <a:moveTo>
                      <a:pt x="1" y="15"/>
                    </a:moveTo>
                    <a:lnTo>
                      <a:pt x="10" y="20"/>
                    </a:lnTo>
                    <a:lnTo>
                      <a:pt x="129" y="18"/>
                    </a:lnTo>
                    <a:lnTo>
                      <a:pt x="129" y="0"/>
                    </a:lnTo>
                    <a:lnTo>
                      <a:pt x="10" y="3"/>
                    </a:lnTo>
                    <a:lnTo>
                      <a:pt x="18" y="9"/>
                    </a:lnTo>
                    <a:lnTo>
                      <a:pt x="10" y="2"/>
                    </a:lnTo>
                    <a:lnTo>
                      <a:pt x="2" y="5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10" y="22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60475"/>
              <p:cNvSpPr/>
              <p:nvPr/>
            </p:nvSpPr>
            <p:spPr>
              <a:xfrm>
                <a:off x="10003680" y="5472360"/>
                <a:ext cx="18360" cy="36720"/>
              </a:xfrm>
              <a:custGeom>
                <a:avLst/>
                <a:gdLst/>
                <a:ahLst/>
                <a:rect l="l" t="t" r="r" b="b"/>
                <a:pathLst>
                  <a:path w="44" h="93">
                    <a:moveTo>
                      <a:pt x="16" y="15"/>
                    </a:moveTo>
                    <a:lnTo>
                      <a:pt x="0" y="12"/>
                    </a:lnTo>
                    <a:lnTo>
                      <a:pt x="27" y="93"/>
                    </a:lnTo>
                    <a:lnTo>
                      <a:pt x="44" y="87"/>
                    </a:lnTo>
                    <a:lnTo>
                      <a:pt x="17" y="6"/>
                    </a:lnTo>
                    <a:lnTo>
                      <a:pt x="1" y="3"/>
                    </a:lnTo>
                    <a:lnTo>
                      <a:pt x="17" y="6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任意多边形 60476"/>
              <p:cNvSpPr/>
              <p:nvPr/>
            </p:nvSpPr>
            <p:spPr>
              <a:xfrm>
                <a:off x="9939240" y="5473440"/>
                <a:ext cx="70920" cy="72720"/>
              </a:xfrm>
              <a:custGeom>
                <a:avLst/>
                <a:gdLst/>
                <a:ahLst/>
                <a:rect l="l" t="t" r="r" b="b"/>
                <a:pathLst>
                  <a:path w="169" h="183">
                    <a:moveTo>
                      <a:pt x="13" y="166"/>
                    </a:moveTo>
                    <a:lnTo>
                      <a:pt x="16" y="180"/>
                    </a:lnTo>
                    <a:lnTo>
                      <a:pt x="169" y="12"/>
                    </a:lnTo>
                    <a:lnTo>
                      <a:pt x="154" y="0"/>
                    </a:lnTo>
                    <a:lnTo>
                      <a:pt x="2" y="169"/>
                    </a:lnTo>
                    <a:lnTo>
                      <a:pt x="4" y="183"/>
                    </a:lnTo>
                    <a:lnTo>
                      <a:pt x="2" y="169"/>
                    </a:lnTo>
                    <a:lnTo>
                      <a:pt x="0" y="176"/>
                    </a:lnTo>
                    <a:lnTo>
                      <a:pt x="3" y="180"/>
                    </a:lnTo>
                    <a:lnTo>
                      <a:pt x="10" y="183"/>
                    </a:lnTo>
                    <a:lnTo>
                      <a:pt x="16" y="180"/>
                    </a:lnTo>
                    <a:lnTo>
                      <a:pt x="13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任意多边形 60477"/>
              <p:cNvSpPr/>
              <p:nvPr/>
            </p:nvSpPr>
            <p:spPr>
              <a:xfrm>
                <a:off x="9941040" y="5539680"/>
                <a:ext cx="12960" cy="100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9" y="13"/>
                    </a:moveTo>
                    <a:lnTo>
                      <a:pt x="25" y="9"/>
                    </a:lnTo>
                    <a:lnTo>
                      <a:pt x="9" y="0"/>
                    </a:lnTo>
                    <a:lnTo>
                      <a:pt x="0" y="17"/>
                    </a:lnTo>
                    <a:lnTo>
                      <a:pt x="16" y="26"/>
                    </a:lnTo>
                    <a:lnTo>
                      <a:pt x="12" y="22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29" y="22"/>
                    </a:lnTo>
                    <a:lnTo>
                      <a:pt x="31" y="14"/>
                    </a:lnTo>
                    <a:lnTo>
                      <a:pt x="25" y="9"/>
                    </a:lnTo>
                    <a:lnTo>
                      <a:pt x="2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任意多边形 60478"/>
              <p:cNvSpPr/>
              <p:nvPr/>
            </p:nvSpPr>
            <p:spPr>
              <a:xfrm>
                <a:off x="9946080" y="5544720"/>
                <a:ext cx="13680" cy="165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33" y="36"/>
                    </a:moveTo>
                    <a:lnTo>
                      <a:pt x="33" y="27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16" y="36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22" y="42"/>
                    </a:lnTo>
                    <a:lnTo>
                      <a:pt x="29" y="40"/>
                    </a:lnTo>
                    <a:lnTo>
                      <a:pt x="33" y="34"/>
                    </a:lnTo>
                    <a:lnTo>
                      <a:pt x="33" y="27"/>
                    </a:lnTo>
                    <a:lnTo>
                      <a:pt x="3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任意多边形 60479"/>
              <p:cNvSpPr/>
              <p:nvPr/>
            </p:nvSpPr>
            <p:spPr>
              <a:xfrm>
                <a:off x="9940320" y="555552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10" y="48"/>
                    </a:moveTo>
                    <a:lnTo>
                      <a:pt x="17" y="61"/>
                    </a:lnTo>
                    <a:lnTo>
                      <a:pt x="46" y="9"/>
                    </a:lnTo>
                    <a:lnTo>
                      <a:pt x="29" y="0"/>
                    </a:lnTo>
                    <a:lnTo>
                      <a:pt x="0" y="52"/>
                    </a:lnTo>
                    <a:lnTo>
                      <a:pt x="7" y="65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4" y="65"/>
                    </a:lnTo>
                    <a:lnTo>
                      <a:pt x="11" y="67"/>
                    </a:lnTo>
                    <a:lnTo>
                      <a:pt x="17" y="61"/>
                    </a:lnTo>
                    <a:lnTo>
                      <a:pt x="1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任意多边形 60480"/>
              <p:cNvSpPr/>
              <p:nvPr/>
            </p:nvSpPr>
            <p:spPr>
              <a:xfrm>
                <a:off x="9943560" y="5574600"/>
                <a:ext cx="35280" cy="20880"/>
              </a:xfrm>
              <a:custGeom>
                <a:avLst/>
                <a:gdLst/>
                <a:ahLst/>
                <a:rect l="l" t="t" r="r" b="b"/>
                <a:pathLst>
                  <a:path w="84" h="53">
                    <a:moveTo>
                      <a:pt x="84" y="53"/>
                    </a:moveTo>
                    <a:lnTo>
                      <a:pt x="82" y="53"/>
                    </a:lnTo>
                    <a:lnTo>
                      <a:pt x="79" y="36"/>
                    </a:lnTo>
                    <a:lnTo>
                      <a:pt x="75" y="21"/>
                    </a:lnTo>
                    <a:lnTo>
                      <a:pt x="66" y="13"/>
                    </a:lnTo>
                    <a:lnTo>
                      <a:pt x="58" y="7"/>
                    </a:lnTo>
                    <a:lnTo>
                      <a:pt x="45" y="6"/>
                    </a:lnTo>
                    <a:lnTo>
                      <a:pt x="33" y="4"/>
                    </a:lnTo>
                    <a:lnTo>
                      <a:pt x="19" y="3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19" y="20"/>
                    </a:lnTo>
                    <a:lnTo>
                      <a:pt x="33" y="21"/>
                    </a:lnTo>
                    <a:lnTo>
                      <a:pt x="45" y="23"/>
                    </a:lnTo>
                    <a:lnTo>
                      <a:pt x="52" y="24"/>
                    </a:lnTo>
                    <a:lnTo>
                      <a:pt x="55" y="27"/>
                    </a:lnTo>
                    <a:lnTo>
                      <a:pt x="58" y="30"/>
                    </a:lnTo>
                    <a:lnTo>
                      <a:pt x="62" y="39"/>
                    </a:lnTo>
                    <a:lnTo>
                      <a:pt x="65" y="53"/>
                    </a:lnTo>
                    <a:lnTo>
                      <a:pt x="64" y="53"/>
                    </a:lnTo>
                    <a:lnTo>
                      <a:pt x="8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任意多边形 60481"/>
              <p:cNvSpPr/>
              <p:nvPr/>
            </p:nvSpPr>
            <p:spPr>
              <a:xfrm>
                <a:off x="9970560" y="559476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7" y="3"/>
                    </a:moveTo>
                    <a:lnTo>
                      <a:pt x="18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8" y="16"/>
                    </a:lnTo>
                    <a:lnTo>
                      <a:pt x="15" y="19"/>
                    </a:lnTo>
                    <a:lnTo>
                      <a:pt x="24" y="19"/>
                    </a:lnTo>
                    <a:lnTo>
                      <a:pt x="25" y="17"/>
                    </a:lnTo>
                    <a:lnTo>
                      <a:pt x="24" y="19"/>
                    </a:lnTo>
                    <a:lnTo>
                      <a:pt x="30" y="15"/>
                    </a:lnTo>
                    <a:lnTo>
                      <a:pt x="30" y="7"/>
                    </a:lnTo>
                    <a:lnTo>
                      <a:pt x="25" y="3"/>
                    </a:lnTo>
                    <a:lnTo>
                      <a:pt x="18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任意多边形 60482"/>
              <p:cNvSpPr/>
              <p:nvPr/>
            </p:nvSpPr>
            <p:spPr>
              <a:xfrm>
                <a:off x="9977400" y="5581440"/>
                <a:ext cx="27720" cy="1980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57" y="0"/>
                    </a:moveTo>
                    <a:lnTo>
                      <a:pt x="54" y="2"/>
                    </a:lnTo>
                    <a:lnTo>
                      <a:pt x="0" y="36"/>
                    </a:lnTo>
                    <a:lnTo>
                      <a:pt x="8" y="50"/>
                    </a:lnTo>
                    <a:lnTo>
                      <a:pt x="63" y="16"/>
                    </a:lnTo>
                    <a:lnTo>
                      <a:pt x="60" y="17"/>
                    </a:lnTo>
                    <a:lnTo>
                      <a:pt x="63" y="16"/>
                    </a:lnTo>
                    <a:lnTo>
                      <a:pt x="66" y="10"/>
                    </a:lnTo>
                    <a:lnTo>
                      <a:pt x="66" y="4"/>
                    </a:lnTo>
                    <a:lnTo>
                      <a:pt x="60" y="0"/>
                    </a:lnTo>
                    <a:lnTo>
                      <a:pt x="54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任意多边形 60483"/>
              <p:cNvSpPr/>
              <p:nvPr/>
            </p:nvSpPr>
            <p:spPr>
              <a:xfrm>
                <a:off x="10001520" y="5581080"/>
                <a:ext cx="24120" cy="1080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41" y="17"/>
                    </a:moveTo>
                    <a:lnTo>
                      <a:pt x="57" y="17"/>
                    </a:lnTo>
                    <a:lnTo>
                      <a:pt x="51" y="11"/>
                    </a:lnTo>
                    <a:lnTo>
                      <a:pt x="45" y="8"/>
                    </a:lnTo>
                    <a:lnTo>
                      <a:pt x="36" y="7"/>
                    </a:lnTo>
                    <a:lnTo>
                      <a:pt x="29" y="4"/>
                    </a:lnTo>
                    <a:lnTo>
                      <a:pt x="21" y="3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3" y="18"/>
                    </a:lnTo>
                    <a:lnTo>
                      <a:pt x="6" y="20"/>
                    </a:lnTo>
                    <a:lnTo>
                      <a:pt x="12" y="18"/>
                    </a:lnTo>
                    <a:lnTo>
                      <a:pt x="18" y="20"/>
                    </a:lnTo>
                    <a:lnTo>
                      <a:pt x="26" y="21"/>
                    </a:lnTo>
                    <a:lnTo>
                      <a:pt x="33" y="24"/>
                    </a:lnTo>
                    <a:lnTo>
                      <a:pt x="39" y="26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58" y="26"/>
                    </a:lnTo>
                    <a:lnTo>
                      <a:pt x="42" y="26"/>
                    </a:lnTo>
                    <a:lnTo>
                      <a:pt x="48" y="28"/>
                    </a:lnTo>
                    <a:lnTo>
                      <a:pt x="54" y="27"/>
                    </a:lnTo>
                    <a:lnTo>
                      <a:pt x="58" y="23"/>
                    </a:lnTo>
                    <a:lnTo>
                      <a:pt x="57" y="17"/>
                    </a:lnTo>
                    <a:lnTo>
                      <a:pt x="4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任意多边形 60484"/>
              <p:cNvSpPr/>
              <p:nvPr/>
            </p:nvSpPr>
            <p:spPr>
              <a:xfrm>
                <a:off x="9320760" y="5598720"/>
                <a:ext cx="692640" cy="912960"/>
              </a:xfrm>
              <a:custGeom>
                <a:avLst/>
                <a:gdLst/>
                <a:ahLst/>
                <a:rect l="l" t="t" r="r" b="b"/>
                <a:pathLst>
                  <a:path w="1645" h="2291">
                    <a:moveTo>
                      <a:pt x="1556" y="33"/>
                    </a:moveTo>
                    <a:lnTo>
                      <a:pt x="1590" y="33"/>
                    </a:lnTo>
                    <a:lnTo>
                      <a:pt x="1616" y="3"/>
                    </a:lnTo>
                    <a:lnTo>
                      <a:pt x="1645" y="0"/>
                    </a:lnTo>
                    <a:lnTo>
                      <a:pt x="132" y="2222"/>
                    </a:lnTo>
                    <a:lnTo>
                      <a:pt x="131" y="2224"/>
                    </a:lnTo>
                    <a:lnTo>
                      <a:pt x="126" y="2230"/>
                    </a:lnTo>
                    <a:lnTo>
                      <a:pt x="119" y="2238"/>
                    </a:lnTo>
                    <a:lnTo>
                      <a:pt x="111" y="2247"/>
                    </a:lnTo>
                    <a:lnTo>
                      <a:pt x="100" y="2257"/>
                    </a:lnTo>
                    <a:lnTo>
                      <a:pt x="89" y="2267"/>
                    </a:lnTo>
                    <a:lnTo>
                      <a:pt x="77" y="2276"/>
                    </a:lnTo>
                    <a:lnTo>
                      <a:pt x="66" y="2283"/>
                    </a:lnTo>
                    <a:lnTo>
                      <a:pt x="56" y="2286"/>
                    </a:lnTo>
                    <a:lnTo>
                      <a:pt x="46" y="2289"/>
                    </a:lnTo>
                    <a:lnTo>
                      <a:pt x="34" y="2290"/>
                    </a:lnTo>
                    <a:lnTo>
                      <a:pt x="24" y="2291"/>
                    </a:lnTo>
                    <a:lnTo>
                      <a:pt x="14" y="2291"/>
                    </a:lnTo>
                    <a:lnTo>
                      <a:pt x="7" y="2291"/>
                    </a:lnTo>
                    <a:lnTo>
                      <a:pt x="1" y="2291"/>
                    </a:lnTo>
                    <a:lnTo>
                      <a:pt x="0" y="2291"/>
                    </a:lnTo>
                    <a:lnTo>
                      <a:pt x="1556" y="3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任意多边形 60485"/>
            <p:cNvSpPr/>
            <p:nvPr/>
          </p:nvSpPr>
          <p:spPr>
            <a:xfrm>
              <a:off x="9473400" y="6028560"/>
              <a:ext cx="173880" cy="238680"/>
            </a:xfrm>
            <a:custGeom>
              <a:avLst/>
              <a:gdLst/>
              <a:ahLst/>
              <a:rect l="l" t="t" r="r" b="b"/>
              <a:pathLst>
                <a:path w="413" h="599">
                  <a:moveTo>
                    <a:pt x="413" y="338"/>
                  </a:moveTo>
                  <a:lnTo>
                    <a:pt x="392" y="368"/>
                  </a:lnTo>
                  <a:lnTo>
                    <a:pt x="369" y="401"/>
                  </a:lnTo>
                  <a:lnTo>
                    <a:pt x="346" y="439"/>
                  </a:lnTo>
                  <a:lnTo>
                    <a:pt x="321" y="475"/>
                  </a:lnTo>
                  <a:lnTo>
                    <a:pt x="297" y="511"/>
                  </a:lnTo>
                  <a:lnTo>
                    <a:pt x="271" y="545"/>
                  </a:lnTo>
                  <a:lnTo>
                    <a:pt x="245" y="574"/>
                  </a:lnTo>
                  <a:lnTo>
                    <a:pt x="217" y="599"/>
                  </a:lnTo>
                  <a:lnTo>
                    <a:pt x="199" y="577"/>
                  </a:lnTo>
                  <a:lnTo>
                    <a:pt x="170" y="544"/>
                  </a:lnTo>
                  <a:lnTo>
                    <a:pt x="135" y="502"/>
                  </a:lnTo>
                  <a:lnTo>
                    <a:pt x="98" y="456"/>
                  </a:lnTo>
                  <a:lnTo>
                    <a:pt x="62" y="412"/>
                  </a:lnTo>
                  <a:lnTo>
                    <a:pt x="30" y="370"/>
                  </a:lnTo>
                  <a:lnTo>
                    <a:pt x="9" y="338"/>
                  </a:lnTo>
                  <a:lnTo>
                    <a:pt x="0" y="318"/>
                  </a:lnTo>
                  <a:lnTo>
                    <a:pt x="276" y="0"/>
                  </a:lnTo>
                  <a:lnTo>
                    <a:pt x="278" y="5"/>
                  </a:lnTo>
                  <a:lnTo>
                    <a:pt x="282" y="20"/>
                  </a:lnTo>
                  <a:lnTo>
                    <a:pt x="288" y="43"/>
                  </a:lnTo>
                  <a:lnTo>
                    <a:pt x="295" y="69"/>
                  </a:lnTo>
                  <a:lnTo>
                    <a:pt x="304" y="99"/>
                  </a:lnTo>
                  <a:lnTo>
                    <a:pt x="312" y="129"/>
                  </a:lnTo>
                  <a:lnTo>
                    <a:pt x="323" y="157"/>
                  </a:lnTo>
                  <a:lnTo>
                    <a:pt x="331" y="181"/>
                  </a:lnTo>
                  <a:lnTo>
                    <a:pt x="341" y="203"/>
                  </a:lnTo>
                  <a:lnTo>
                    <a:pt x="350" y="220"/>
                  </a:lnTo>
                  <a:lnTo>
                    <a:pt x="359" y="234"/>
                  </a:lnTo>
                  <a:lnTo>
                    <a:pt x="367" y="249"/>
                  </a:lnTo>
                  <a:lnTo>
                    <a:pt x="377" y="265"/>
                  </a:lnTo>
                  <a:lnTo>
                    <a:pt x="387" y="283"/>
                  </a:lnTo>
                  <a:lnTo>
                    <a:pt x="400" y="308"/>
                  </a:lnTo>
                  <a:lnTo>
                    <a:pt x="41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60486"/>
            <p:cNvSpPr/>
            <p:nvPr/>
          </p:nvSpPr>
          <p:spPr>
            <a:xfrm>
              <a:off x="9640080" y="5684040"/>
              <a:ext cx="1027800" cy="9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对象 60487" descr=""/>
          <p:cNvPicPr/>
          <p:nvPr/>
        </p:nvPicPr>
        <p:blipFill>
          <a:blip r:embed="rId3"/>
          <a:stretch/>
        </p:blipFill>
        <p:spPr>
          <a:xfrm>
            <a:off x="2135160" y="5373720"/>
            <a:ext cx="1522440" cy="1301760"/>
          </a:xfrm>
          <a:prstGeom prst="rect">
            <a:avLst/>
          </a:prstGeom>
          <a:ln w="0">
            <a:noFill/>
          </a:ln>
        </p:spPr>
      </p:pic>
      <p:sp>
        <p:nvSpPr>
          <p:cNvPr id="109" name="矩形 60490"/>
          <p:cNvSpPr txBox="1"/>
          <p:nvPr/>
        </p:nvSpPr>
        <p:spPr>
          <a:xfrm>
            <a:off x="2208240" y="1916280"/>
            <a:ext cx="75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勾股定理的逆定理</a:t>
            </a:r>
            <a:endParaRPr b="0" lang="en-US" sz="2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74753"/>
          <p:cNvSpPr/>
          <p:nvPr/>
        </p:nvSpPr>
        <p:spPr>
          <a:xfrm>
            <a:off x="1676520" y="1197000"/>
            <a:ext cx="899136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两条直线平行，内错角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两个实数相等，那么它们的平方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两个实数相等，那么它们的绝对值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全等三角形的对应角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74754"/>
          <p:cNvSpPr/>
          <p:nvPr/>
        </p:nvSpPr>
        <p:spPr>
          <a:xfrm>
            <a:off x="1828800" y="765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说出下列命题的逆命题．这些命题的逆命题成立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4755"/>
          <p:cNvSpPr/>
          <p:nvPr/>
        </p:nvSpPr>
        <p:spPr>
          <a:xfrm>
            <a:off x="1523880" y="198792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内错角相等，两条直线平行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74756"/>
          <p:cNvSpPr/>
          <p:nvPr/>
        </p:nvSpPr>
        <p:spPr>
          <a:xfrm>
            <a:off x="1523880" y="306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如果两个实数的平方相等，那么这两个实数相等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74757"/>
          <p:cNvSpPr/>
          <p:nvPr/>
        </p:nvSpPr>
        <p:spPr>
          <a:xfrm>
            <a:off x="1523880" y="4364280"/>
            <a:ext cx="9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如果两个实数的绝对值相等，那么这两个实数相等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4758"/>
          <p:cNvSpPr/>
          <p:nvPr/>
        </p:nvSpPr>
        <p:spPr>
          <a:xfrm>
            <a:off x="1774800" y="537228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对应角相等的两个三角形是全等三角形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74760"/>
          <p:cNvSpPr/>
          <p:nvPr/>
        </p:nvSpPr>
        <p:spPr>
          <a:xfrm>
            <a:off x="1558800" y="5882040"/>
            <a:ext cx="885852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感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原命题成立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逆命题有时成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时不成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74763"/>
          <p:cNvGrpSpPr/>
          <p:nvPr/>
        </p:nvGrpSpPr>
        <p:grpSpPr>
          <a:xfrm>
            <a:off x="2063880" y="-1440"/>
            <a:ext cx="3581280" cy="686880"/>
            <a:chOff x="2063880" y="-1440"/>
            <a:chExt cx="3581280" cy="686880"/>
          </a:xfrm>
        </p:grpSpPr>
        <p:grpSp>
          <p:nvGrpSpPr>
            <p:cNvPr id="247" name="组合 74764"/>
            <p:cNvGrpSpPr/>
            <p:nvPr/>
          </p:nvGrpSpPr>
          <p:grpSpPr>
            <a:xfrm>
              <a:off x="2063880" y="-1440"/>
              <a:ext cx="2361960" cy="508320"/>
              <a:chOff x="2063880" y="-1440"/>
              <a:chExt cx="2361960" cy="508320"/>
            </a:xfrm>
          </p:grpSpPr>
          <p:sp>
            <p:nvSpPr>
              <p:cNvPr id="248" name="矩形 74765"/>
              <p:cNvSpPr/>
              <p:nvPr/>
            </p:nvSpPr>
            <p:spPr>
              <a:xfrm>
                <a:off x="2063880" y="47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试一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矩形 74766"/>
              <p:cNvSpPr/>
              <p:nvPr/>
            </p:nvSpPr>
            <p:spPr>
              <a:xfrm>
                <a:off x="3943440" y="-144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0" name="图片 74767" descr="678"/>
            <p:cNvPicPr/>
            <p:nvPr/>
          </p:nvPicPr>
          <p:blipFill>
            <a:blip r:embed="rId1"/>
            <a:stretch/>
          </p:blipFill>
          <p:spPr>
            <a:xfrm>
              <a:off x="4425840" y="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图片 7476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2063880" y="1522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矩形 74769"/>
          <p:cNvSpPr/>
          <p:nvPr/>
        </p:nvSpPr>
        <p:spPr>
          <a:xfrm>
            <a:off x="2639880" y="5907240"/>
            <a:ext cx="770436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命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真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它逆命题却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一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真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50178" descr="BS00554_"/>
          <p:cNvPicPr/>
          <p:nvPr/>
        </p:nvPicPr>
        <p:blipFill>
          <a:blip r:embed="rId1"/>
          <a:stretch/>
        </p:blipFill>
        <p:spPr>
          <a:xfrm>
            <a:off x="1668600" y="0"/>
            <a:ext cx="1331640" cy="11620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74440" y="691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下面以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,b,c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为边长的三角形是不是直角三角形？如果是那么哪一个角是直角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50180"/>
          <p:cNvSpPr/>
          <p:nvPr/>
        </p:nvSpPr>
        <p:spPr>
          <a:xfrm>
            <a:off x="2063880" y="17082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1) a=25   b=20  c=15      ____      _____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50181"/>
          <p:cNvSpPr/>
          <p:nvPr/>
        </p:nvSpPr>
        <p:spPr>
          <a:xfrm>
            <a:off x="2063880" y="242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2) a=13   b=14    c=15    ____       _____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50182"/>
          <p:cNvSpPr/>
          <p:nvPr/>
        </p:nvSpPr>
        <p:spPr>
          <a:xfrm>
            <a:off x="2063880" y="3789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4) a:b: c=3:4:5               _____     _____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50183"/>
          <p:cNvSpPr/>
          <p:nvPr/>
        </p:nvSpPr>
        <p:spPr>
          <a:xfrm>
            <a:off x="6816600" y="1557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50184"/>
          <p:cNvSpPr/>
          <p:nvPr/>
        </p:nvSpPr>
        <p:spPr>
          <a:xfrm>
            <a:off x="6888240" y="371484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50185"/>
          <p:cNvSpPr/>
          <p:nvPr/>
        </p:nvSpPr>
        <p:spPr>
          <a:xfrm>
            <a:off x="6888240" y="2276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不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50186"/>
          <p:cNvSpPr/>
          <p:nvPr/>
        </p:nvSpPr>
        <p:spPr>
          <a:xfrm>
            <a:off x="6888240" y="285264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50187"/>
          <p:cNvSpPr/>
          <p:nvPr/>
        </p:nvSpPr>
        <p:spPr>
          <a:xfrm>
            <a:off x="7896240" y="155736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∠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A=90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0188"/>
          <p:cNvSpPr/>
          <p:nvPr/>
        </p:nvSpPr>
        <p:spPr>
          <a:xfrm>
            <a:off x="8040600" y="3068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∠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=9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50189"/>
          <p:cNvSpPr/>
          <p:nvPr/>
        </p:nvSpPr>
        <p:spPr>
          <a:xfrm>
            <a:off x="8183520" y="372420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∠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C=9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0190"/>
          <p:cNvGrpSpPr/>
          <p:nvPr/>
        </p:nvGrpSpPr>
        <p:grpSpPr>
          <a:xfrm>
            <a:off x="2063880" y="3068640"/>
            <a:ext cx="8208360" cy="796680"/>
            <a:chOff x="2063880" y="3068640"/>
            <a:chExt cx="8208360" cy="796680"/>
          </a:xfrm>
        </p:grpSpPr>
        <p:sp>
          <p:nvSpPr>
            <p:cNvPr id="266" name="文本框 50191"/>
            <p:cNvSpPr/>
            <p:nvPr/>
          </p:nvSpPr>
          <p:spPr>
            <a:xfrm>
              <a:off x="2063880" y="3068640"/>
              <a:ext cx="82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3) a=1  b=2   c=              ____       _____ 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对象 50192" descr=""/>
            <p:cNvPicPr/>
            <p:nvPr/>
          </p:nvPicPr>
          <p:blipFill>
            <a:blip r:embed="rId2"/>
            <a:stretch/>
          </p:blipFill>
          <p:spPr>
            <a:xfrm>
              <a:off x="5361840" y="3068640"/>
              <a:ext cx="649080" cy="7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文本框 50193"/>
          <p:cNvSpPr/>
          <p:nvPr/>
        </p:nvSpPr>
        <p:spPr>
          <a:xfrm>
            <a:off x="2208240" y="4581360"/>
            <a:ext cx="7704000" cy="1483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5,20,15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能够成为直角三角形三条边长的三个正整数，称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勾股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动作按钮: 结束 50194"/>
          <p:cNvSpPr/>
          <p:nvPr/>
        </p:nvSpPr>
        <p:spPr>
          <a:xfrm>
            <a:off x="9912240" y="62373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文本框 81941"/>
          <p:cNvSpPr/>
          <p:nvPr/>
        </p:nvSpPr>
        <p:spPr>
          <a:xfrm>
            <a:off x="1558800" y="1268280"/>
            <a:ext cx="9315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例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判断由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i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r>
              <a:rPr b="1" i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组成的三角形是不是直角三角形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(1)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5 ,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b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8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81942" descr=""/>
          <p:cNvPicPr/>
          <p:nvPr/>
        </p:nvPicPr>
        <p:blipFill>
          <a:blip r:embed="rId1"/>
          <a:stretch/>
        </p:blipFill>
        <p:spPr>
          <a:xfrm>
            <a:off x="1523880" y="0"/>
            <a:ext cx="1752840" cy="1341360"/>
          </a:xfrm>
          <a:prstGeom prst="rect">
            <a:avLst/>
          </a:prstGeom>
          <a:ln w="0">
            <a:noFill/>
          </a:ln>
        </p:spPr>
      </p:pic>
      <p:grpSp>
        <p:nvGrpSpPr>
          <p:cNvPr id="272" name="组合 81943"/>
          <p:cNvGrpSpPr/>
          <p:nvPr/>
        </p:nvGrpSpPr>
        <p:grpSpPr>
          <a:xfrm>
            <a:off x="3792600" y="258840"/>
            <a:ext cx="3581280" cy="686880"/>
            <a:chOff x="3792600" y="258840"/>
            <a:chExt cx="3581280" cy="686880"/>
          </a:xfrm>
        </p:grpSpPr>
        <p:grpSp>
          <p:nvGrpSpPr>
            <p:cNvPr id="273" name="组合 81944"/>
            <p:cNvGrpSpPr/>
            <p:nvPr/>
          </p:nvGrpSpPr>
          <p:grpSpPr>
            <a:xfrm>
              <a:off x="3792600" y="258840"/>
              <a:ext cx="2361960" cy="508320"/>
              <a:chOff x="3792600" y="258840"/>
              <a:chExt cx="2361960" cy="508320"/>
            </a:xfrm>
          </p:grpSpPr>
          <p:sp>
            <p:nvSpPr>
              <p:cNvPr id="274" name="矩形 81945"/>
              <p:cNvSpPr/>
              <p:nvPr/>
            </p:nvSpPr>
            <p:spPr>
              <a:xfrm>
                <a:off x="3792600" y="307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例题解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81946"/>
              <p:cNvSpPr/>
              <p:nvPr/>
            </p:nvSpPr>
            <p:spPr>
              <a:xfrm>
                <a:off x="5672160" y="25884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6" name="图片 81947" descr="678"/>
            <p:cNvPicPr/>
            <p:nvPr/>
          </p:nvPicPr>
          <p:blipFill>
            <a:blip r:embed="rId2"/>
            <a:stretch/>
          </p:blipFill>
          <p:spPr>
            <a:xfrm>
              <a:off x="6154560" y="260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图片 81948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792600" y="412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文本框 81949"/>
          <p:cNvSpPr/>
          <p:nvPr/>
        </p:nvSpPr>
        <p:spPr>
          <a:xfrm>
            <a:off x="5987880" y="1916280"/>
            <a:ext cx="47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(2)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3 ,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b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5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1950"/>
          <p:cNvSpPr/>
          <p:nvPr/>
        </p:nvSpPr>
        <p:spPr>
          <a:xfrm>
            <a:off x="2063880" y="2637000"/>
            <a:ext cx="766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：由勾股定理的逆定理，判断三角形是不是直角三角形，只要看两条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较小边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方和是否等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最大边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1951"/>
          <p:cNvSpPr/>
          <p:nvPr/>
        </p:nvSpPr>
        <p:spPr>
          <a:xfrm>
            <a:off x="1847880" y="4149720"/>
            <a:ext cx="76676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解：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∵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5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＋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8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225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＋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64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28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  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7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28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∴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5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＋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8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7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∴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这个三角形是直角三角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动作按钮: 结束 81952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96257"/>
          <p:cNvSpPr/>
          <p:nvPr/>
        </p:nvSpPr>
        <p:spPr>
          <a:xfrm>
            <a:off x="1725480" y="619200"/>
            <a:ext cx="73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例 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在△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ABC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中，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a=15, b=17, c=8,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求此三角形的面积</a:t>
            </a:r>
            <a:r>
              <a:rPr b="1" i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96258"/>
          <p:cNvSpPr/>
          <p:nvPr/>
        </p:nvSpPr>
        <p:spPr>
          <a:xfrm>
            <a:off x="3287880" y="35002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对象 96259" descr=""/>
          <p:cNvPicPr/>
          <p:nvPr/>
        </p:nvPicPr>
        <p:blipFill>
          <a:blip r:embed="rId1"/>
          <a:stretch/>
        </p:blipFill>
        <p:spPr>
          <a:xfrm>
            <a:off x="2135160" y="1700280"/>
            <a:ext cx="3168720" cy="1270080"/>
          </a:xfrm>
          <a:prstGeom prst="rect">
            <a:avLst/>
          </a:prstGeom>
          <a:ln w="0">
            <a:noFill/>
          </a:ln>
        </p:spPr>
      </p:pic>
      <p:sp>
        <p:nvSpPr>
          <p:cNvPr id="285" name="文本框 96260"/>
          <p:cNvSpPr/>
          <p:nvPr/>
        </p:nvSpPr>
        <p:spPr>
          <a:xfrm>
            <a:off x="2063880" y="3141720"/>
            <a:ext cx="4752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宋体"/>
              </a:rPr>
              <a:t>∴</a:t>
            </a: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△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ＡＢＣ为直角三角形</a:t>
            </a: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宋体"/>
              </a:rPr>
              <a:t>且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B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宋体"/>
              </a:rPr>
              <a:t>∴ 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△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ABC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的面积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对象 96261" descr=""/>
          <p:cNvPicPr/>
          <p:nvPr/>
        </p:nvPicPr>
        <p:blipFill>
          <a:blip r:embed="rId2"/>
          <a:stretch/>
        </p:blipFill>
        <p:spPr>
          <a:xfrm>
            <a:off x="4367160" y="3645000"/>
            <a:ext cx="3456000" cy="93636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96262"/>
          <p:cNvSpPr/>
          <p:nvPr/>
        </p:nvSpPr>
        <p:spPr>
          <a:xfrm>
            <a:off x="9048600" y="4437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96263"/>
          <p:cNvSpPr/>
          <p:nvPr/>
        </p:nvSpPr>
        <p:spPr>
          <a:xfrm>
            <a:off x="7967520" y="28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96264"/>
          <p:cNvSpPr/>
          <p:nvPr/>
        </p:nvSpPr>
        <p:spPr>
          <a:xfrm>
            <a:off x="9191520" y="28526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96265"/>
          <p:cNvSpPr/>
          <p:nvPr/>
        </p:nvSpPr>
        <p:spPr>
          <a:xfrm>
            <a:off x="984096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96266"/>
          <p:cNvSpPr/>
          <p:nvPr/>
        </p:nvSpPr>
        <p:spPr>
          <a:xfrm>
            <a:off x="811224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96267"/>
          <p:cNvSpPr/>
          <p:nvPr/>
        </p:nvSpPr>
        <p:spPr>
          <a:xfrm>
            <a:off x="8256600" y="119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6268"/>
          <p:cNvSpPr/>
          <p:nvPr/>
        </p:nvSpPr>
        <p:spPr>
          <a:xfrm>
            <a:off x="8472600" y="1628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96269"/>
          <p:cNvSpPr/>
          <p:nvPr/>
        </p:nvSpPr>
        <p:spPr>
          <a:xfrm>
            <a:off x="8472600" y="4437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96270"/>
          <p:cNvSpPr/>
          <p:nvPr/>
        </p:nvSpPr>
        <p:spPr>
          <a:xfrm>
            <a:off x="8472600" y="1557360"/>
            <a:ext cx="1368360" cy="2879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96271"/>
          <p:cNvSpPr/>
          <p:nvPr/>
        </p:nvSpPr>
        <p:spPr>
          <a:xfrm flipV="1">
            <a:off x="8472600" y="1557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98307"/>
          <p:cNvSpPr txBox="1"/>
          <p:nvPr/>
        </p:nvSpPr>
        <p:spPr>
          <a:xfrm>
            <a:off x="2135160" y="2060640"/>
            <a:ext cx="7561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勾股定理的逆定理</a:t>
            </a:r>
            <a:r>
              <a:rPr b="0" lang="en-US" sz="2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(2)</a:t>
            </a:r>
            <a:endParaRPr b="0" lang="en-US" sz="2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组合 65537"/>
          <p:cNvGrpSpPr/>
          <p:nvPr/>
        </p:nvGrpSpPr>
        <p:grpSpPr>
          <a:xfrm>
            <a:off x="1676520" y="1432080"/>
            <a:ext cx="8915400" cy="4665600"/>
            <a:chOff x="1676520" y="1432080"/>
            <a:chExt cx="8915400" cy="4665600"/>
          </a:xfrm>
        </p:grpSpPr>
        <p:sp>
          <p:nvSpPr>
            <p:cNvPr id="299" name="文本框 65538"/>
            <p:cNvSpPr/>
            <p:nvPr/>
          </p:nvSpPr>
          <p:spPr>
            <a:xfrm>
              <a:off x="7696440" y="417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组合 65539"/>
            <p:cNvGrpSpPr/>
            <p:nvPr/>
          </p:nvGrpSpPr>
          <p:grpSpPr>
            <a:xfrm>
              <a:off x="2058480" y="2931840"/>
              <a:ext cx="3628800" cy="2937240"/>
              <a:chOff x="2058480" y="2931840"/>
              <a:chExt cx="3628800" cy="2937240"/>
            </a:xfrm>
          </p:grpSpPr>
          <p:sp>
            <p:nvSpPr>
              <p:cNvPr id="301" name="直角三角形 65540"/>
              <p:cNvSpPr/>
              <p:nvPr/>
            </p:nvSpPr>
            <p:spPr>
              <a:xfrm>
                <a:off x="2349720" y="4708440"/>
                <a:ext cx="609480" cy="8380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直角三角形 65541"/>
              <p:cNvSpPr/>
              <p:nvPr/>
            </p:nvSpPr>
            <p:spPr>
              <a:xfrm rot="19416000">
                <a:off x="2371680" y="3709440"/>
                <a:ext cx="2971800" cy="1066680"/>
              </a:xfrm>
              <a:prstGeom prst="rtTriangl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65542"/>
              <p:cNvSpPr/>
              <p:nvPr/>
            </p:nvSpPr>
            <p:spPr>
              <a:xfrm>
                <a:off x="2134440" y="54543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65543"/>
              <p:cNvSpPr/>
              <p:nvPr/>
            </p:nvSpPr>
            <p:spPr>
              <a:xfrm>
                <a:off x="2884320" y="5470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矩形 65544"/>
              <p:cNvSpPr/>
              <p:nvPr/>
            </p:nvSpPr>
            <p:spPr>
              <a:xfrm>
                <a:off x="5322240" y="3565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65545"/>
              <p:cNvSpPr/>
              <p:nvPr/>
            </p:nvSpPr>
            <p:spPr>
              <a:xfrm>
                <a:off x="2058480" y="4387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组合 65546"/>
            <p:cNvGrpSpPr/>
            <p:nvPr/>
          </p:nvGrpSpPr>
          <p:grpSpPr>
            <a:xfrm>
              <a:off x="6325560" y="3160440"/>
              <a:ext cx="3628800" cy="2937240"/>
              <a:chOff x="6325560" y="3160440"/>
              <a:chExt cx="3628800" cy="2937240"/>
            </a:xfrm>
          </p:grpSpPr>
          <p:sp>
            <p:nvSpPr>
              <p:cNvPr id="308" name="直角三角形 65547"/>
              <p:cNvSpPr/>
              <p:nvPr/>
            </p:nvSpPr>
            <p:spPr>
              <a:xfrm>
                <a:off x="6616800" y="4937040"/>
                <a:ext cx="609480" cy="8380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角三角形 65548"/>
              <p:cNvSpPr/>
              <p:nvPr/>
            </p:nvSpPr>
            <p:spPr>
              <a:xfrm rot="19416000">
                <a:off x="6638760" y="3938040"/>
                <a:ext cx="2971800" cy="1066680"/>
              </a:xfrm>
              <a:prstGeom prst="rtTriangl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65549"/>
              <p:cNvSpPr/>
              <p:nvPr/>
            </p:nvSpPr>
            <p:spPr>
              <a:xfrm>
                <a:off x="6401520" y="56829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矩形 65550"/>
              <p:cNvSpPr/>
              <p:nvPr/>
            </p:nvSpPr>
            <p:spPr>
              <a:xfrm>
                <a:off x="7151400" y="56988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矩形 65551"/>
              <p:cNvSpPr/>
              <p:nvPr/>
            </p:nvSpPr>
            <p:spPr>
              <a:xfrm>
                <a:off x="9589320" y="37940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65552"/>
              <p:cNvSpPr/>
              <p:nvPr/>
            </p:nvSpPr>
            <p:spPr>
              <a:xfrm>
                <a:off x="6325560" y="4616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矩形 65553"/>
            <p:cNvSpPr/>
            <p:nvPr/>
          </p:nvSpPr>
          <p:spPr>
            <a:xfrm>
              <a:off x="6782400" y="568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65554"/>
            <p:cNvSpPr/>
            <p:nvPr/>
          </p:nvSpPr>
          <p:spPr>
            <a:xfrm>
              <a:off x="6325200" y="5165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65555"/>
            <p:cNvSpPr/>
            <p:nvPr/>
          </p:nvSpPr>
          <p:spPr>
            <a:xfrm>
              <a:off x="6934680" y="5165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65556"/>
            <p:cNvSpPr/>
            <p:nvPr/>
          </p:nvSpPr>
          <p:spPr>
            <a:xfrm>
              <a:off x="8153640" y="49370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65557"/>
            <p:cNvSpPr/>
            <p:nvPr/>
          </p:nvSpPr>
          <p:spPr>
            <a:xfrm>
              <a:off x="1676520" y="1432080"/>
              <a:ext cx="89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例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 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一个零件的形状如左图所示，按规定这个零件中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∠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和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∠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DBC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都应为直角。工人师傅量得这个零件各边尺寸如右图所示，这个 零件符合要求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图片 65558" descr=""/>
          <p:cNvPicPr/>
          <p:nvPr/>
        </p:nvPicPr>
        <p:blipFill>
          <a:blip r:embed="rId1"/>
          <a:stretch/>
        </p:blipFill>
        <p:spPr>
          <a:xfrm>
            <a:off x="1523880" y="0"/>
            <a:ext cx="1752840" cy="134136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合 65559"/>
          <p:cNvGrpSpPr/>
          <p:nvPr/>
        </p:nvGrpSpPr>
        <p:grpSpPr>
          <a:xfrm>
            <a:off x="3792600" y="258840"/>
            <a:ext cx="3581280" cy="686880"/>
            <a:chOff x="3792600" y="258840"/>
            <a:chExt cx="3581280" cy="686880"/>
          </a:xfrm>
        </p:grpSpPr>
        <p:grpSp>
          <p:nvGrpSpPr>
            <p:cNvPr id="321" name="组合 65560"/>
            <p:cNvGrpSpPr/>
            <p:nvPr/>
          </p:nvGrpSpPr>
          <p:grpSpPr>
            <a:xfrm>
              <a:off x="3792600" y="258840"/>
              <a:ext cx="2361960" cy="508320"/>
              <a:chOff x="3792600" y="258840"/>
              <a:chExt cx="2361960" cy="508320"/>
            </a:xfrm>
          </p:grpSpPr>
          <p:sp>
            <p:nvSpPr>
              <p:cNvPr id="322" name="矩形 65561"/>
              <p:cNvSpPr/>
              <p:nvPr/>
            </p:nvSpPr>
            <p:spPr>
              <a:xfrm>
                <a:off x="3792600" y="307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例题解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65562"/>
              <p:cNvSpPr/>
              <p:nvPr/>
            </p:nvSpPr>
            <p:spPr>
              <a:xfrm>
                <a:off x="5672160" y="25884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图片 65563" descr="678"/>
            <p:cNvPicPr/>
            <p:nvPr/>
          </p:nvPicPr>
          <p:blipFill>
            <a:blip r:embed="rId2"/>
            <a:stretch/>
          </p:blipFill>
          <p:spPr>
            <a:xfrm>
              <a:off x="6154560" y="260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图片 65564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792600" y="412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动作按钮: 结束 65565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440" y="25560"/>
            <a:ext cx="109472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3333cc"/>
                </a:solidFill>
                <a:latin typeface="Times New Roman"/>
              </a:rPr>
              <a:t>例</a:t>
            </a:r>
            <a:r>
              <a:rPr b="0" lang="en-US" sz="41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zh-CN" sz="41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“远航”号、“海天”号轮船同时离开港口，各自沿一固定方向航行，“远航”号每小时航行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里，“海天”号每小时航行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里。它们离开港口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一个半小时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后相距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里。如果知道“远航”号沿</a:t>
            </a:r>
            <a:r>
              <a:rPr b="1" lang="zh-CN" sz="3700" spc="-1" strike="noStrike">
                <a:solidFill>
                  <a:srgbClr val="3333cc"/>
                </a:solidFill>
                <a:latin typeface="Times New Roman"/>
              </a:rPr>
              <a:t>东北方向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航行，能知道“海天”号沿哪个方向航行吗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97282"/>
          <p:cNvGrpSpPr/>
          <p:nvPr/>
        </p:nvGrpSpPr>
        <p:grpSpPr>
          <a:xfrm>
            <a:off x="5870520" y="3836880"/>
            <a:ext cx="3809520" cy="2590920"/>
            <a:chOff x="5870520" y="3836880"/>
            <a:chExt cx="3809520" cy="2590920"/>
          </a:xfrm>
        </p:grpSpPr>
        <p:grpSp>
          <p:nvGrpSpPr>
            <p:cNvPr id="329" name="组合 97283"/>
            <p:cNvGrpSpPr/>
            <p:nvPr/>
          </p:nvGrpSpPr>
          <p:grpSpPr>
            <a:xfrm>
              <a:off x="6098760" y="3836880"/>
              <a:ext cx="3374280" cy="2590920"/>
              <a:chOff x="6098760" y="3836880"/>
              <a:chExt cx="3374280" cy="2590920"/>
            </a:xfrm>
          </p:grpSpPr>
          <p:sp>
            <p:nvSpPr>
              <p:cNvPr id="330" name="直接连接符 97284"/>
              <p:cNvSpPr/>
              <p:nvPr/>
            </p:nvSpPr>
            <p:spPr>
              <a:xfrm flipV="1">
                <a:off x="6784200" y="4522680"/>
                <a:ext cx="17524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组合 97285"/>
              <p:cNvGrpSpPr/>
              <p:nvPr/>
            </p:nvGrpSpPr>
            <p:grpSpPr>
              <a:xfrm>
                <a:off x="6098760" y="3836880"/>
                <a:ext cx="3374280" cy="2590920"/>
                <a:chOff x="6098760" y="3836880"/>
                <a:chExt cx="3374280" cy="2590920"/>
              </a:xfrm>
            </p:grpSpPr>
            <p:sp>
              <p:nvSpPr>
                <p:cNvPr id="332" name="直接连接符 97286"/>
                <p:cNvSpPr/>
                <p:nvPr/>
              </p:nvSpPr>
              <p:spPr>
                <a:xfrm>
                  <a:off x="6098760" y="5665680"/>
                  <a:ext cx="2971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直接连接符 97287"/>
                <p:cNvSpPr/>
                <p:nvPr/>
              </p:nvSpPr>
              <p:spPr>
                <a:xfrm>
                  <a:off x="7394040" y="3913200"/>
                  <a:ext cx="0" cy="2514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直接连接符 97288"/>
                <p:cNvSpPr/>
                <p:nvPr/>
              </p:nvSpPr>
              <p:spPr>
                <a:xfrm>
                  <a:off x="6784200" y="4979880"/>
                  <a:ext cx="60948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直接连接符 97289"/>
                <p:cNvSpPr/>
                <p:nvPr/>
              </p:nvSpPr>
              <p:spPr>
                <a:xfrm flipV="1">
                  <a:off x="7394040" y="4522320"/>
                  <a:ext cx="1142640" cy="1143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文本框 97290"/>
                <p:cNvSpPr/>
                <p:nvPr/>
              </p:nvSpPr>
              <p:spPr>
                <a:xfrm>
                  <a:off x="7395120" y="558936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文本框 97291"/>
                <p:cNvSpPr/>
                <p:nvPr/>
              </p:nvSpPr>
              <p:spPr>
                <a:xfrm>
                  <a:off x="9056160" y="535140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文本框 97292"/>
                <p:cNvSpPr/>
                <p:nvPr/>
              </p:nvSpPr>
              <p:spPr>
                <a:xfrm>
                  <a:off x="8446680" y="420840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文本框 97293"/>
                <p:cNvSpPr/>
                <p:nvPr/>
              </p:nvSpPr>
              <p:spPr>
                <a:xfrm>
                  <a:off x="6328440" y="4751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文本框 97294"/>
                <p:cNvSpPr/>
                <p:nvPr/>
              </p:nvSpPr>
              <p:spPr>
                <a:xfrm>
                  <a:off x="7471440" y="3836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组合 97295"/>
            <p:cNvGrpSpPr/>
            <p:nvPr/>
          </p:nvGrpSpPr>
          <p:grpSpPr>
            <a:xfrm>
              <a:off x="5870520" y="3989520"/>
              <a:ext cx="3809520" cy="990360"/>
              <a:chOff x="5870520" y="3989520"/>
              <a:chExt cx="3809520" cy="990360"/>
            </a:xfrm>
          </p:grpSpPr>
          <p:sp>
            <p:nvSpPr>
              <p:cNvPr id="342" name="椭圆 97296"/>
              <p:cNvSpPr/>
              <p:nvPr/>
            </p:nvSpPr>
            <p:spPr>
              <a:xfrm flipV="1">
                <a:off x="8384760" y="4599000"/>
                <a:ext cx="9140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远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直角三角形 97297"/>
              <p:cNvSpPr/>
              <p:nvPr/>
            </p:nvSpPr>
            <p:spPr>
              <a:xfrm>
                <a:off x="8918280" y="4218120"/>
                <a:ext cx="761760" cy="2286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直接连接符 97298"/>
              <p:cNvSpPr/>
              <p:nvPr/>
            </p:nvSpPr>
            <p:spPr>
              <a:xfrm>
                <a:off x="8994600" y="444672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 97299"/>
              <p:cNvSpPr/>
              <p:nvPr/>
            </p:nvSpPr>
            <p:spPr>
              <a:xfrm>
                <a:off x="5870520" y="4446720"/>
                <a:ext cx="10666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海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直角三角形 97300"/>
              <p:cNvSpPr/>
              <p:nvPr/>
            </p:nvSpPr>
            <p:spPr>
              <a:xfrm flipH="1">
                <a:off x="5870520" y="3989520"/>
                <a:ext cx="685440" cy="2286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直接连接符 97301"/>
              <p:cNvSpPr/>
              <p:nvPr/>
            </p:nvSpPr>
            <p:spPr>
              <a:xfrm>
                <a:off x="6403680" y="421812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51201"/>
          <p:cNvSpPr/>
          <p:nvPr/>
        </p:nvSpPr>
        <p:spPr>
          <a:xfrm>
            <a:off x="9524880" y="1828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内容占位符 51203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8304120" cy="1584360"/>
          </a:xfrm>
          <a:prstGeom prst="rect">
            <a:avLst/>
          </a:prstGeom>
          <a:ln w="0">
            <a:noFill/>
          </a:ln>
        </p:spPr>
      </p:pic>
      <p:sp>
        <p:nvSpPr>
          <p:cNvPr id="350" name="文本框 51204"/>
          <p:cNvSpPr/>
          <p:nvPr/>
        </p:nvSpPr>
        <p:spPr>
          <a:xfrm>
            <a:off x="2063880" y="2781360"/>
            <a:ext cx="7812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锐角三角形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直角三角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钝角三角形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等边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nt"/>
          <p:cNvSpPr/>
          <p:nvPr/>
        </p:nvSpPr>
        <p:spPr>
          <a:xfrm>
            <a:off x="2063880" y="5013360"/>
            <a:ext cx="1368360" cy="10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51206"/>
          <p:cNvSpPr/>
          <p:nvPr/>
        </p:nvSpPr>
        <p:spPr>
          <a:xfrm>
            <a:off x="1523880" y="76212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51207"/>
          <p:cNvGrpSpPr/>
          <p:nvPr/>
        </p:nvGrpSpPr>
        <p:grpSpPr>
          <a:xfrm>
            <a:off x="1919160" y="0"/>
            <a:ext cx="3581280" cy="686880"/>
            <a:chOff x="1919160" y="0"/>
            <a:chExt cx="3581280" cy="686880"/>
          </a:xfrm>
        </p:grpSpPr>
        <p:grpSp>
          <p:nvGrpSpPr>
            <p:cNvPr id="354" name="组合 51208"/>
            <p:cNvGrpSpPr/>
            <p:nvPr/>
          </p:nvGrpSpPr>
          <p:grpSpPr>
            <a:xfrm>
              <a:off x="1919160" y="0"/>
              <a:ext cx="2361960" cy="508320"/>
              <a:chOff x="1919160" y="0"/>
              <a:chExt cx="2361960" cy="508320"/>
            </a:xfrm>
          </p:grpSpPr>
          <p:sp>
            <p:nvSpPr>
              <p:cNvPr id="355" name="矩形 51209"/>
              <p:cNvSpPr/>
              <p:nvPr/>
            </p:nvSpPr>
            <p:spPr>
              <a:xfrm>
                <a:off x="191916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矩形 51210"/>
              <p:cNvSpPr/>
              <p:nvPr/>
            </p:nvSpPr>
            <p:spPr>
              <a:xfrm>
                <a:off x="3798720" y="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7" name="图片 51211" descr="678"/>
            <p:cNvPicPr/>
            <p:nvPr/>
          </p:nvPicPr>
          <p:blipFill>
            <a:blip r:embed="rId2"/>
            <a:stretch/>
          </p:blipFill>
          <p:spPr>
            <a:xfrm>
              <a:off x="428112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图片 51212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191916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动作按钮: 结束 51213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54275"/>
          <p:cNvSpPr/>
          <p:nvPr/>
        </p:nvSpPr>
        <p:spPr>
          <a:xfrm>
            <a:off x="2496960" y="2484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54276"/>
          <p:cNvSpPr/>
          <p:nvPr/>
        </p:nvSpPr>
        <p:spPr>
          <a:xfrm>
            <a:off x="2820960" y="620640"/>
            <a:ext cx="70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如图，四边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3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求四边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54277"/>
          <p:cNvSpPr/>
          <p:nvPr/>
        </p:nvSpPr>
        <p:spPr>
          <a:xfrm>
            <a:off x="593892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54278"/>
          <p:cNvSpPr/>
          <p:nvPr/>
        </p:nvSpPr>
        <p:spPr>
          <a:xfrm flipV="1">
            <a:off x="4981680" y="3141720"/>
            <a:ext cx="885600" cy="2232000"/>
          </a:xfrm>
          <a:prstGeom prst="line">
            <a:avLst/>
          </a:prstGeom>
          <a:ln w="507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54279"/>
          <p:cNvGrpSpPr/>
          <p:nvPr/>
        </p:nvGrpSpPr>
        <p:grpSpPr>
          <a:xfrm>
            <a:off x="3973680" y="2781360"/>
            <a:ext cx="6119280" cy="3311280"/>
            <a:chOff x="3973680" y="2781360"/>
            <a:chExt cx="6119280" cy="3311280"/>
          </a:xfrm>
        </p:grpSpPr>
        <p:sp>
          <p:nvSpPr>
            <p:cNvPr id="365" name="文本框 54280"/>
            <p:cNvSpPr/>
            <p:nvPr/>
          </p:nvSpPr>
          <p:spPr>
            <a:xfrm>
              <a:off x="4617720" y="5250600"/>
              <a:ext cx="874080" cy="8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54281"/>
            <p:cNvSpPr/>
            <p:nvPr/>
          </p:nvSpPr>
          <p:spPr>
            <a:xfrm>
              <a:off x="3973680" y="4041720"/>
              <a:ext cx="87408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文本框 54282"/>
            <p:cNvSpPr/>
            <p:nvPr/>
          </p:nvSpPr>
          <p:spPr>
            <a:xfrm>
              <a:off x="5539680" y="2781360"/>
              <a:ext cx="874080" cy="11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54283"/>
            <p:cNvSpPr/>
            <p:nvPr/>
          </p:nvSpPr>
          <p:spPr>
            <a:xfrm flipH="1">
              <a:off x="4374720" y="3203280"/>
              <a:ext cx="1456200" cy="1122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54284"/>
            <p:cNvSpPr/>
            <p:nvPr/>
          </p:nvSpPr>
          <p:spPr>
            <a:xfrm>
              <a:off x="4375080" y="4326480"/>
              <a:ext cx="582480" cy="1122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54285"/>
            <p:cNvSpPr/>
            <p:nvPr/>
          </p:nvSpPr>
          <p:spPr>
            <a:xfrm flipV="1">
              <a:off x="4957560" y="4606920"/>
              <a:ext cx="4366440" cy="842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54286"/>
            <p:cNvSpPr/>
            <p:nvPr/>
          </p:nvSpPr>
          <p:spPr>
            <a:xfrm flipH="1" flipV="1">
              <a:off x="5831640" y="3203280"/>
              <a:ext cx="3492720" cy="1404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54287"/>
            <p:cNvSpPr/>
            <p:nvPr/>
          </p:nvSpPr>
          <p:spPr>
            <a:xfrm>
              <a:off x="9218880" y="4390200"/>
              <a:ext cx="87408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直接连接符 54288"/>
          <p:cNvSpPr/>
          <p:nvPr/>
        </p:nvSpPr>
        <p:spPr>
          <a:xfrm>
            <a:off x="4476600" y="4222800"/>
            <a:ext cx="71640" cy="1429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54289"/>
          <p:cNvSpPr/>
          <p:nvPr/>
        </p:nvSpPr>
        <p:spPr>
          <a:xfrm flipH="1">
            <a:off x="4404960" y="4365720"/>
            <a:ext cx="142920" cy="71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54292"/>
          <p:cNvSpPr/>
          <p:nvPr/>
        </p:nvSpPr>
        <p:spPr>
          <a:xfrm>
            <a:off x="6456240" y="2637000"/>
            <a:ext cx="381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四边形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ABC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=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54293"/>
          <p:cNvGrpSpPr/>
          <p:nvPr/>
        </p:nvGrpSpPr>
        <p:grpSpPr>
          <a:xfrm>
            <a:off x="1847880" y="-1440"/>
            <a:ext cx="3581280" cy="686880"/>
            <a:chOff x="1847880" y="-1440"/>
            <a:chExt cx="3581280" cy="686880"/>
          </a:xfrm>
        </p:grpSpPr>
        <p:grpSp>
          <p:nvGrpSpPr>
            <p:cNvPr id="377" name="组合 54294"/>
            <p:cNvGrpSpPr/>
            <p:nvPr/>
          </p:nvGrpSpPr>
          <p:grpSpPr>
            <a:xfrm>
              <a:off x="1847880" y="-1440"/>
              <a:ext cx="2361960" cy="508320"/>
              <a:chOff x="1847880" y="-1440"/>
              <a:chExt cx="2361960" cy="508320"/>
            </a:xfrm>
          </p:grpSpPr>
          <p:sp>
            <p:nvSpPr>
              <p:cNvPr id="378" name="矩形 54295"/>
              <p:cNvSpPr/>
              <p:nvPr/>
            </p:nvSpPr>
            <p:spPr>
              <a:xfrm>
                <a:off x="1847880" y="47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中考链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矩形 54296"/>
              <p:cNvSpPr/>
              <p:nvPr/>
            </p:nvSpPr>
            <p:spPr>
              <a:xfrm>
                <a:off x="3727440" y="-144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0" name="图片 54297" descr="678"/>
            <p:cNvPicPr/>
            <p:nvPr/>
          </p:nvPicPr>
          <p:blipFill>
            <a:blip r:embed="rId1"/>
            <a:stretch/>
          </p:blipFill>
          <p:spPr>
            <a:xfrm>
              <a:off x="4209840" y="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图片 5429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847880" y="1522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动作按钮: 结束 54299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对象 57347" descr=""/>
          <p:cNvPicPr/>
          <p:nvPr/>
        </p:nvPicPr>
        <p:blipFill>
          <a:blip r:embed="rId1"/>
          <a:stretch/>
        </p:blipFill>
        <p:spPr>
          <a:xfrm>
            <a:off x="2424240" y="1033560"/>
            <a:ext cx="6943680" cy="2197080"/>
          </a:xfrm>
          <a:prstGeom prst="rect">
            <a:avLst/>
          </a:prstGeom>
          <a:ln w="0">
            <a:noFill/>
          </a:ln>
        </p:spPr>
      </p:pic>
      <p:sp>
        <p:nvSpPr>
          <p:cNvPr id="384" name="矩形 57348"/>
          <p:cNvSpPr/>
          <p:nvPr/>
        </p:nvSpPr>
        <p:spPr>
          <a:xfrm>
            <a:off x="2351160" y="350028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分析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先来判断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a,b,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三边哪条最长，可以代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m,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为满足条件的特殊值来试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m=5,n=4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则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a=9,b=40,c=41,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最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对象 57349" descr=""/>
          <p:cNvPicPr/>
          <p:nvPr/>
        </p:nvPicPr>
        <p:blipFill>
          <a:blip r:embed="rId2"/>
          <a:stretch/>
        </p:blipFill>
        <p:spPr>
          <a:xfrm>
            <a:off x="2063880" y="5013360"/>
            <a:ext cx="7607160" cy="503280"/>
          </a:xfrm>
          <a:prstGeom prst="rect">
            <a:avLst/>
          </a:prstGeom>
          <a:ln w="0">
            <a:noFill/>
          </a:ln>
        </p:spPr>
      </p:pic>
      <p:sp>
        <p:nvSpPr>
          <p:cNvPr id="386" name="矩形 57350"/>
          <p:cNvSpPr/>
          <p:nvPr/>
        </p:nvSpPr>
        <p:spPr>
          <a:xfrm>
            <a:off x="1703520" y="4592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57351"/>
          <p:cNvSpPr/>
          <p:nvPr/>
        </p:nvSpPr>
        <p:spPr>
          <a:xfrm>
            <a:off x="2567160" y="5588640"/>
            <a:ext cx="56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∴△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B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是直角三角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57358"/>
          <p:cNvGrpSpPr/>
          <p:nvPr/>
        </p:nvGrpSpPr>
        <p:grpSpPr>
          <a:xfrm>
            <a:off x="1919160" y="0"/>
            <a:ext cx="3581280" cy="686880"/>
            <a:chOff x="1919160" y="0"/>
            <a:chExt cx="3581280" cy="686880"/>
          </a:xfrm>
        </p:grpSpPr>
        <p:grpSp>
          <p:nvGrpSpPr>
            <p:cNvPr id="389" name="组合 57359"/>
            <p:cNvGrpSpPr/>
            <p:nvPr/>
          </p:nvGrpSpPr>
          <p:grpSpPr>
            <a:xfrm>
              <a:off x="1919160" y="0"/>
              <a:ext cx="2361960" cy="508320"/>
              <a:chOff x="1919160" y="0"/>
              <a:chExt cx="2361960" cy="508320"/>
            </a:xfrm>
          </p:grpSpPr>
          <p:sp>
            <p:nvSpPr>
              <p:cNvPr id="390" name="矩形 57360"/>
              <p:cNvSpPr/>
              <p:nvPr/>
            </p:nvSpPr>
            <p:spPr>
              <a:xfrm>
                <a:off x="191916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57361"/>
              <p:cNvSpPr/>
              <p:nvPr/>
            </p:nvSpPr>
            <p:spPr>
              <a:xfrm>
                <a:off x="3798720" y="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2" name="图片 57362" descr="678"/>
            <p:cNvPicPr/>
            <p:nvPr/>
          </p:nvPicPr>
          <p:blipFill>
            <a:blip r:embed="rId3"/>
            <a:stretch/>
          </p:blipFill>
          <p:spPr>
            <a:xfrm>
              <a:off x="428112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图片 57363" descr="gif003[1]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191916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动作按钮: 结束 57364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8067"/>
          <p:cNvSpPr txBox="1"/>
          <p:nvPr/>
        </p:nvSpPr>
        <p:spPr>
          <a:xfrm>
            <a:off x="1933560" y="674640"/>
            <a:ext cx="264312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回忆过去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1" name="文本框 88068"/>
          <p:cNvSpPr/>
          <p:nvPr/>
        </p:nvSpPr>
        <p:spPr>
          <a:xfrm>
            <a:off x="3428640" y="1812960"/>
            <a:ext cx="33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角三角形有哪些性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88069"/>
          <p:cNvSpPr/>
          <p:nvPr/>
        </p:nvSpPr>
        <p:spPr>
          <a:xfrm>
            <a:off x="3672360" y="2959200"/>
            <a:ext cx="41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何判断三角形是直角三角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文本框 68621"/>
          <p:cNvSpPr/>
          <p:nvPr/>
        </p:nvSpPr>
        <p:spPr>
          <a:xfrm>
            <a:off x="1774800" y="126828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请你写出三组勾股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一组勾股数的倍数一定是勾股数吗？为什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图片 68622" descr="1"/>
          <p:cNvPicPr/>
          <p:nvPr/>
        </p:nvPicPr>
        <p:blipFill>
          <a:blip r:embed="rId1"/>
          <a:stretch/>
        </p:blipFill>
        <p:spPr>
          <a:xfrm>
            <a:off x="6672240" y="3645000"/>
            <a:ext cx="3733920" cy="2438280"/>
          </a:xfrm>
          <a:prstGeom prst="rect">
            <a:avLst/>
          </a:prstGeom>
          <a:ln w="0">
            <a:noFill/>
          </a:ln>
        </p:spPr>
      </p:pic>
      <p:grpSp>
        <p:nvGrpSpPr>
          <p:cNvPr id="397" name="组合 68625"/>
          <p:cNvGrpSpPr/>
          <p:nvPr/>
        </p:nvGrpSpPr>
        <p:grpSpPr>
          <a:xfrm>
            <a:off x="2147760" y="282600"/>
            <a:ext cx="3581280" cy="686880"/>
            <a:chOff x="2147760" y="282600"/>
            <a:chExt cx="3581280" cy="686880"/>
          </a:xfrm>
        </p:grpSpPr>
        <p:grpSp>
          <p:nvGrpSpPr>
            <p:cNvPr id="398" name="组合 68626"/>
            <p:cNvGrpSpPr/>
            <p:nvPr/>
          </p:nvGrpSpPr>
          <p:grpSpPr>
            <a:xfrm>
              <a:off x="2147760" y="282600"/>
              <a:ext cx="2361960" cy="508320"/>
              <a:chOff x="2147760" y="282600"/>
              <a:chExt cx="2361960" cy="508320"/>
            </a:xfrm>
          </p:grpSpPr>
          <p:sp>
            <p:nvSpPr>
              <p:cNvPr id="399" name="矩形 68627"/>
              <p:cNvSpPr/>
              <p:nvPr/>
            </p:nvSpPr>
            <p:spPr>
              <a:xfrm>
                <a:off x="2147760" y="3312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挑战自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矩形 68628"/>
              <p:cNvSpPr/>
              <p:nvPr/>
            </p:nvSpPr>
            <p:spPr>
              <a:xfrm>
                <a:off x="4027320" y="28260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1" name="图片 68629" descr="678"/>
            <p:cNvPicPr/>
            <p:nvPr/>
          </p:nvPicPr>
          <p:blipFill>
            <a:blip r:embed="rId2"/>
            <a:stretch/>
          </p:blipFill>
          <p:spPr>
            <a:xfrm>
              <a:off x="4509720" y="2840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图片 68630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2147760" y="4363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动作按钮: 结束 68631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矩形 76802"/>
          <p:cNvSpPr/>
          <p:nvPr/>
        </p:nvSpPr>
        <p:spPr>
          <a:xfrm>
            <a:off x="526716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6805"/>
          <p:cNvSpPr/>
          <p:nvPr/>
        </p:nvSpPr>
        <p:spPr>
          <a:xfrm>
            <a:off x="1703520" y="90792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 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且  满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338=10a+24b+26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试判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76806"/>
          <p:cNvGrpSpPr/>
          <p:nvPr/>
        </p:nvGrpSpPr>
        <p:grpSpPr>
          <a:xfrm>
            <a:off x="2063880" y="0"/>
            <a:ext cx="3581280" cy="686880"/>
            <a:chOff x="2063880" y="0"/>
            <a:chExt cx="3581280" cy="686880"/>
          </a:xfrm>
        </p:grpSpPr>
        <p:grpSp>
          <p:nvGrpSpPr>
            <p:cNvPr id="407" name="组合 76807"/>
            <p:cNvGrpSpPr/>
            <p:nvPr/>
          </p:nvGrpSpPr>
          <p:grpSpPr>
            <a:xfrm>
              <a:off x="2063880" y="0"/>
              <a:ext cx="2361960" cy="508320"/>
              <a:chOff x="2063880" y="0"/>
              <a:chExt cx="2361960" cy="508320"/>
            </a:xfrm>
          </p:grpSpPr>
          <p:sp>
            <p:nvSpPr>
              <p:cNvPr id="408" name="矩形 76808"/>
              <p:cNvSpPr/>
              <p:nvPr/>
            </p:nvSpPr>
            <p:spPr>
              <a:xfrm>
                <a:off x="206388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维训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矩形 76809"/>
              <p:cNvSpPr/>
              <p:nvPr/>
            </p:nvSpPr>
            <p:spPr>
              <a:xfrm>
                <a:off x="3943440" y="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0" name="图片 76810" descr="678"/>
            <p:cNvPicPr/>
            <p:nvPr/>
          </p:nvPicPr>
          <p:blipFill>
            <a:blip r:embed="rId1"/>
            <a:stretch/>
          </p:blipFill>
          <p:spPr>
            <a:xfrm>
              <a:off x="442584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图片 76811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206388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动作按钮: 结束 76812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53250"/>
          <p:cNvSpPr/>
          <p:nvPr/>
        </p:nvSpPr>
        <p:spPr>
          <a:xfrm>
            <a:off x="2371680" y="1120320"/>
            <a:ext cx="782964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三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,b,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为边向外作正方形，正三角形，以三边为直径作半圆，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+S</a:t>
            </a:r>
            <a:r>
              <a:rPr b="1" lang="en-US" sz="36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S</a:t>
            </a:r>
            <a:r>
              <a:rPr b="1" lang="en-US" sz="36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，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53251"/>
          <p:cNvSpPr/>
          <p:nvPr/>
        </p:nvSpPr>
        <p:spPr>
          <a:xfrm>
            <a:off x="6642720" y="18752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直角三角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图片 53253" descr=""/>
          <p:cNvPicPr/>
          <p:nvPr/>
        </p:nvPicPr>
        <p:blipFill>
          <a:blip r:embed="rId1"/>
          <a:stretch/>
        </p:blipFill>
        <p:spPr>
          <a:xfrm>
            <a:off x="7032600" y="3284640"/>
            <a:ext cx="2771640" cy="2808360"/>
          </a:xfrm>
          <a:prstGeom prst="rect">
            <a:avLst/>
          </a:prstGeom>
          <a:ln w="0">
            <a:noFill/>
          </a:ln>
        </p:spPr>
      </p:pic>
      <p:sp>
        <p:nvSpPr>
          <p:cNvPr id="416" name="文本框 53254"/>
          <p:cNvSpPr/>
          <p:nvPr/>
        </p:nvSpPr>
        <p:spPr>
          <a:xfrm>
            <a:off x="7075440" y="4716360"/>
            <a:ext cx="692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53255"/>
          <p:cNvSpPr/>
          <p:nvPr/>
        </p:nvSpPr>
        <p:spPr>
          <a:xfrm>
            <a:off x="7653240" y="3527280"/>
            <a:ext cx="6922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53256"/>
          <p:cNvSpPr/>
          <p:nvPr/>
        </p:nvSpPr>
        <p:spPr>
          <a:xfrm>
            <a:off x="8388360" y="4167360"/>
            <a:ext cx="692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53257"/>
          <p:cNvSpPr/>
          <p:nvPr/>
        </p:nvSpPr>
        <p:spPr>
          <a:xfrm>
            <a:off x="7580160" y="4173480"/>
            <a:ext cx="692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53258"/>
          <p:cNvSpPr/>
          <p:nvPr/>
        </p:nvSpPr>
        <p:spPr>
          <a:xfrm>
            <a:off x="8158320" y="4498920"/>
            <a:ext cx="6919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53259"/>
          <p:cNvSpPr/>
          <p:nvPr/>
        </p:nvSpPr>
        <p:spPr>
          <a:xfrm>
            <a:off x="8663040" y="3683160"/>
            <a:ext cx="691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53260"/>
          <p:cNvSpPr/>
          <p:nvPr/>
        </p:nvSpPr>
        <p:spPr>
          <a:xfrm>
            <a:off x="7162920" y="3962520"/>
            <a:ext cx="6919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53261"/>
          <p:cNvSpPr/>
          <p:nvPr/>
        </p:nvSpPr>
        <p:spPr>
          <a:xfrm>
            <a:off x="8244000" y="5105520"/>
            <a:ext cx="6919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图片 53263" descr=""/>
          <p:cNvPicPr/>
          <p:nvPr/>
        </p:nvPicPr>
        <p:blipFill>
          <a:blip r:embed="rId2"/>
          <a:stretch/>
        </p:blipFill>
        <p:spPr>
          <a:xfrm>
            <a:off x="3635280" y="2743200"/>
            <a:ext cx="3170160" cy="3456000"/>
          </a:xfrm>
          <a:prstGeom prst="rect">
            <a:avLst/>
          </a:prstGeom>
          <a:ln w="0">
            <a:noFill/>
          </a:ln>
        </p:spPr>
      </p:pic>
      <p:sp>
        <p:nvSpPr>
          <p:cNvPr id="425" name="文本框 53264"/>
          <p:cNvSpPr/>
          <p:nvPr/>
        </p:nvSpPr>
        <p:spPr>
          <a:xfrm>
            <a:off x="9601200" y="464832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53265"/>
          <p:cNvSpPr/>
          <p:nvPr/>
        </p:nvSpPr>
        <p:spPr>
          <a:xfrm>
            <a:off x="4075200" y="4476600"/>
            <a:ext cx="782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53266"/>
          <p:cNvSpPr/>
          <p:nvPr/>
        </p:nvSpPr>
        <p:spPr>
          <a:xfrm>
            <a:off x="5964120" y="444672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3267"/>
          <p:cNvSpPr/>
          <p:nvPr/>
        </p:nvSpPr>
        <p:spPr>
          <a:xfrm>
            <a:off x="4481640" y="35924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53268"/>
          <p:cNvSpPr/>
          <p:nvPr/>
        </p:nvSpPr>
        <p:spPr>
          <a:xfrm>
            <a:off x="5035680" y="41054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53269"/>
          <p:cNvSpPr/>
          <p:nvPr/>
        </p:nvSpPr>
        <p:spPr>
          <a:xfrm>
            <a:off x="4530600" y="411156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53270"/>
          <p:cNvSpPr/>
          <p:nvPr/>
        </p:nvSpPr>
        <p:spPr>
          <a:xfrm>
            <a:off x="4824360" y="428940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53271"/>
          <p:cNvSpPr/>
          <p:nvPr/>
        </p:nvSpPr>
        <p:spPr>
          <a:xfrm>
            <a:off x="5508720" y="34988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53272"/>
          <p:cNvSpPr/>
          <p:nvPr/>
        </p:nvSpPr>
        <p:spPr>
          <a:xfrm>
            <a:off x="4010040" y="3911760"/>
            <a:ext cx="781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53273"/>
          <p:cNvSpPr/>
          <p:nvPr/>
        </p:nvSpPr>
        <p:spPr>
          <a:xfrm>
            <a:off x="4987800" y="5118120"/>
            <a:ext cx="781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53275"/>
          <p:cNvGrpSpPr/>
          <p:nvPr/>
        </p:nvGrpSpPr>
        <p:grpSpPr>
          <a:xfrm>
            <a:off x="2063880" y="0"/>
            <a:ext cx="3581280" cy="686880"/>
            <a:chOff x="2063880" y="0"/>
            <a:chExt cx="3581280" cy="686880"/>
          </a:xfrm>
        </p:grpSpPr>
        <p:grpSp>
          <p:nvGrpSpPr>
            <p:cNvPr id="436" name="组合 53276"/>
            <p:cNvGrpSpPr/>
            <p:nvPr/>
          </p:nvGrpSpPr>
          <p:grpSpPr>
            <a:xfrm>
              <a:off x="2063880" y="0"/>
              <a:ext cx="2361960" cy="508320"/>
              <a:chOff x="2063880" y="0"/>
              <a:chExt cx="2361960" cy="508320"/>
            </a:xfrm>
          </p:grpSpPr>
          <p:sp>
            <p:nvSpPr>
              <p:cNvPr id="437" name="矩形 53277"/>
              <p:cNvSpPr/>
              <p:nvPr/>
            </p:nvSpPr>
            <p:spPr>
              <a:xfrm>
                <a:off x="206388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维训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矩形 53278"/>
              <p:cNvSpPr/>
              <p:nvPr/>
            </p:nvSpPr>
            <p:spPr>
              <a:xfrm>
                <a:off x="3943440" y="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9" name="图片 53279" descr="678"/>
            <p:cNvPicPr/>
            <p:nvPr/>
          </p:nvPicPr>
          <p:blipFill>
            <a:blip r:embed="rId3"/>
            <a:stretch/>
          </p:blipFill>
          <p:spPr>
            <a:xfrm>
              <a:off x="442584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图片 53280" descr="gif003[1]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206388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动作按钮: 结束 53281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图片 77825" descr="BAS00431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文本框 77826"/>
          <p:cNvSpPr/>
          <p:nvPr/>
        </p:nvSpPr>
        <p:spPr>
          <a:xfrm>
            <a:off x="4419720" y="2209680"/>
            <a:ext cx="297180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77827"/>
          <p:cNvSpPr txBox="1"/>
          <p:nvPr/>
        </p:nvSpPr>
        <p:spPr>
          <a:xfrm>
            <a:off x="3048120" y="1600200"/>
            <a:ext cx="6172200" cy="236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请谈谈你的收获</a:t>
            </a:r>
            <a:endParaRPr b="0" lang="en-US" sz="2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45" name="动作按钮: 结束 77828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34800" y="54900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Arial"/>
                <a:ea typeface="楷体_GB2312"/>
              </a:rPr>
              <a:t>自主评价：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58370"/>
          <p:cNvSpPr/>
          <p:nvPr/>
        </p:nvSpPr>
        <p:spPr>
          <a:xfrm>
            <a:off x="2065320" y="1989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勾股定理的逆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8371"/>
          <p:cNvSpPr/>
          <p:nvPr/>
        </p:nvSpPr>
        <p:spPr>
          <a:xfrm>
            <a:off x="2100240" y="2781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什么叫做互逆命题、原命题与逆命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58372"/>
          <p:cNvSpPr/>
          <p:nvPr/>
        </p:nvSpPr>
        <p:spPr>
          <a:xfrm>
            <a:off x="2136600" y="37242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什么称为互为逆定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动作按钮: 结束 58375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64545"/>
          <p:cNvGrpSpPr/>
          <p:nvPr/>
        </p:nvGrpSpPr>
        <p:grpSpPr>
          <a:xfrm>
            <a:off x="7545240" y="2892600"/>
            <a:ext cx="2438280" cy="1828800"/>
            <a:chOff x="7545240" y="2892600"/>
            <a:chExt cx="2438280" cy="1828800"/>
          </a:xfrm>
        </p:grpSpPr>
        <p:sp>
          <p:nvSpPr>
            <p:cNvPr id="114" name="直接连接符 64546"/>
            <p:cNvSpPr/>
            <p:nvPr/>
          </p:nvSpPr>
          <p:spPr>
            <a:xfrm>
              <a:off x="7545240" y="2892600"/>
              <a:ext cx="2438280" cy="1828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流程图: 联系 64547"/>
            <p:cNvSpPr/>
            <p:nvPr/>
          </p:nvSpPr>
          <p:spPr>
            <a:xfrm>
              <a:off x="8383320" y="3502080"/>
              <a:ext cx="10188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流程图: 联系 64548"/>
            <p:cNvSpPr/>
            <p:nvPr/>
          </p:nvSpPr>
          <p:spPr>
            <a:xfrm>
              <a:off x="8002440" y="31975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流程图: 联系 64549"/>
            <p:cNvSpPr/>
            <p:nvPr/>
          </p:nvSpPr>
          <p:spPr>
            <a:xfrm>
              <a:off x="8840520" y="382140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联系 64550"/>
            <p:cNvSpPr/>
            <p:nvPr/>
          </p:nvSpPr>
          <p:spPr>
            <a:xfrm>
              <a:off x="9374040" y="420228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64558"/>
          <p:cNvGrpSpPr/>
          <p:nvPr/>
        </p:nvGrpSpPr>
        <p:grpSpPr>
          <a:xfrm>
            <a:off x="7483320" y="4656240"/>
            <a:ext cx="2500200" cy="141120"/>
            <a:chOff x="7483320" y="4656240"/>
            <a:chExt cx="2500200" cy="141120"/>
          </a:xfrm>
        </p:grpSpPr>
        <p:sp>
          <p:nvSpPr>
            <p:cNvPr id="120" name="直接连接符 64514"/>
            <p:cNvSpPr/>
            <p:nvPr/>
          </p:nvSpPr>
          <p:spPr>
            <a:xfrm>
              <a:off x="7483320" y="4721400"/>
              <a:ext cx="2438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流程图: 联系 64515"/>
            <p:cNvSpPr/>
            <p:nvPr/>
          </p:nvSpPr>
          <p:spPr>
            <a:xfrm>
              <a:off x="9258120" y="465624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流程图: 联系 64516"/>
            <p:cNvSpPr/>
            <p:nvPr/>
          </p:nvSpPr>
          <p:spPr>
            <a:xfrm>
              <a:off x="8663040" y="465624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流程图: 联系 64517"/>
            <p:cNvSpPr/>
            <p:nvPr/>
          </p:nvSpPr>
          <p:spPr>
            <a:xfrm>
              <a:off x="8030880" y="465624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流程图: 联系 64518"/>
            <p:cNvSpPr/>
            <p:nvPr/>
          </p:nvSpPr>
          <p:spPr>
            <a:xfrm>
              <a:off x="9882000" y="4656240"/>
              <a:ext cx="101520" cy="14112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直接连接符 64519"/>
          <p:cNvSpPr/>
          <p:nvPr/>
        </p:nvSpPr>
        <p:spPr>
          <a:xfrm>
            <a:off x="2286000" y="152388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64520"/>
          <p:cNvGrpSpPr/>
          <p:nvPr/>
        </p:nvGrpSpPr>
        <p:grpSpPr>
          <a:xfrm>
            <a:off x="2286000" y="1447920"/>
            <a:ext cx="7470720" cy="150840"/>
            <a:chOff x="2286000" y="1447920"/>
            <a:chExt cx="7470720" cy="150840"/>
          </a:xfrm>
        </p:grpSpPr>
        <p:sp>
          <p:nvSpPr>
            <p:cNvPr id="127" name="流程图: 联系 64521"/>
            <p:cNvSpPr/>
            <p:nvPr/>
          </p:nvSpPr>
          <p:spPr>
            <a:xfrm>
              <a:off x="2286000" y="1457280"/>
              <a:ext cx="10152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流程图: 联系 64522"/>
            <p:cNvSpPr/>
            <p:nvPr/>
          </p:nvSpPr>
          <p:spPr>
            <a:xfrm>
              <a:off x="965520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联系 64523"/>
            <p:cNvSpPr/>
            <p:nvPr/>
          </p:nvSpPr>
          <p:spPr>
            <a:xfrm>
              <a:off x="904068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联系 64524"/>
            <p:cNvSpPr/>
            <p:nvPr/>
          </p:nvSpPr>
          <p:spPr>
            <a:xfrm>
              <a:off x="8426160" y="144792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流程图: 联系 64525"/>
            <p:cNvSpPr/>
            <p:nvPr/>
          </p:nvSpPr>
          <p:spPr>
            <a:xfrm>
              <a:off x="7812000" y="1447920"/>
              <a:ext cx="1033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流程图: 联系 64526"/>
            <p:cNvSpPr/>
            <p:nvPr/>
          </p:nvSpPr>
          <p:spPr>
            <a:xfrm>
              <a:off x="7197480" y="1447920"/>
              <a:ext cx="1033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流程图: 联系 64527"/>
            <p:cNvSpPr/>
            <p:nvPr/>
          </p:nvSpPr>
          <p:spPr>
            <a:xfrm>
              <a:off x="6584760" y="1457280"/>
              <a:ext cx="10152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流程图: 联系 64528"/>
            <p:cNvSpPr/>
            <p:nvPr/>
          </p:nvSpPr>
          <p:spPr>
            <a:xfrm>
              <a:off x="597060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流程图: 联系 64529"/>
            <p:cNvSpPr/>
            <p:nvPr/>
          </p:nvSpPr>
          <p:spPr>
            <a:xfrm>
              <a:off x="535608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流程图: 联系 64530"/>
            <p:cNvSpPr/>
            <p:nvPr/>
          </p:nvSpPr>
          <p:spPr>
            <a:xfrm>
              <a:off x="4741920" y="1447920"/>
              <a:ext cx="10296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流程图: 联系 64531"/>
            <p:cNvSpPr/>
            <p:nvPr/>
          </p:nvSpPr>
          <p:spPr>
            <a:xfrm>
              <a:off x="4127400" y="1447920"/>
              <a:ext cx="1033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流程图: 联系 64532"/>
            <p:cNvSpPr/>
            <p:nvPr/>
          </p:nvSpPr>
          <p:spPr>
            <a:xfrm>
              <a:off x="351468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流程图: 联系 64533"/>
            <p:cNvSpPr/>
            <p:nvPr/>
          </p:nvSpPr>
          <p:spPr>
            <a:xfrm>
              <a:off x="290016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流程图: 联系 64534"/>
          <p:cNvSpPr/>
          <p:nvPr/>
        </p:nvSpPr>
        <p:spPr>
          <a:xfrm>
            <a:off x="4114800" y="1447920"/>
            <a:ext cx="101520" cy="14112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联系 64535"/>
          <p:cNvSpPr/>
          <p:nvPr/>
        </p:nvSpPr>
        <p:spPr>
          <a:xfrm>
            <a:off x="6575400" y="1461960"/>
            <a:ext cx="101520" cy="1414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64536"/>
          <p:cNvGrpSpPr/>
          <p:nvPr/>
        </p:nvGrpSpPr>
        <p:grpSpPr>
          <a:xfrm>
            <a:off x="2286000" y="1447920"/>
            <a:ext cx="7467480" cy="155520"/>
            <a:chOff x="2286000" y="1447920"/>
            <a:chExt cx="7467480" cy="155520"/>
          </a:xfrm>
        </p:grpSpPr>
        <p:sp>
          <p:nvSpPr>
            <p:cNvPr id="143" name="流程图: 联系 64537"/>
            <p:cNvSpPr/>
            <p:nvPr/>
          </p:nvSpPr>
          <p:spPr>
            <a:xfrm>
              <a:off x="2286000" y="1461960"/>
              <a:ext cx="101520" cy="1414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流程图: 联系 64538"/>
            <p:cNvSpPr/>
            <p:nvPr/>
          </p:nvSpPr>
          <p:spPr>
            <a:xfrm>
              <a:off x="9651960" y="1447920"/>
              <a:ext cx="101520" cy="1411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流程图: 联系 64539"/>
          <p:cNvSpPr/>
          <p:nvPr/>
        </p:nvSpPr>
        <p:spPr>
          <a:xfrm rot="5400000">
            <a:off x="7467120" y="2815920"/>
            <a:ext cx="101520" cy="142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64540"/>
          <p:cNvGrpSpPr/>
          <p:nvPr/>
        </p:nvGrpSpPr>
        <p:grpSpPr>
          <a:xfrm>
            <a:off x="7432560" y="2938320"/>
            <a:ext cx="151920" cy="1854000"/>
            <a:chOff x="7432560" y="2938320"/>
            <a:chExt cx="151920" cy="1854000"/>
          </a:xfrm>
        </p:grpSpPr>
        <p:sp>
          <p:nvSpPr>
            <p:cNvPr id="147" name="直接连接符 64541"/>
            <p:cNvSpPr/>
            <p:nvPr/>
          </p:nvSpPr>
          <p:spPr>
            <a:xfrm>
              <a:off x="7511760" y="2938320"/>
              <a:ext cx="0" cy="1830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流程图: 联系 64542"/>
            <p:cNvSpPr/>
            <p:nvPr/>
          </p:nvSpPr>
          <p:spPr>
            <a:xfrm rot="5400000">
              <a:off x="7462800" y="3458160"/>
              <a:ext cx="10152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流程图: 联系 64543"/>
            <p:cNvSpPr/>
            <p:nvPr/>
          </p:nvSpPr>
          <p:spPr>
            <a:xfrm rot="5400000">
              <a:off x="7452360" y="40831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流程图: 联系 64544"/>
            <p:cNvSpPr/>
            <p:nvPr/>
          </p:nvSpPr>
          <p:spPr>
            <a:xfrm rot="5400000">
              <a:off x="7452360" y="4671000"/>
              <a:ext cx="101520" cy="141120"/>
            </a:xfrm>
            <a:prstGeom prst="flowChartConnector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1" name="肘形连接符 64551"/>
          <p:cNvCxnSpPr/>
          <p:nvPr/>
        </p:nvCxnSpPr>
        <p:spPr>
          <a:xfrm>
            <a:off x="7511040" y="4339800"/>
            <a:ext cx="153000" cy="381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52" name="文本框 64552"/>
          <p:cNvSpPr/>
          <p:nvPr/>
        </p:nvSpPr>
        <p:spPr>
          <a:xfrm>
            <a:off x="3641760" y="5045040"/>
            <a:ext cx="309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4553"/>
          <p:cNvSpPr/>
          <p:nvPr/>
        </p:nvSpPr>
        <p:spPr>
          <a:xfrm>
            <a:off x="4440240" y="5229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按照这种做法真能得到一个</a:t>
            </a:r>
            <a:r>
              <a:rPr b="1" i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直角三角形</a:t>
            </a:r>
            <a:r>
              <a:rPr b="1" i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吗？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64555"/>
          <p:cNvSpPr/>
          <p:nvPr/>
        </p:nvSpPr>
        <p:spPr>
          <a:xfrm>
            <a:off x="1774800" y="476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古埃及人曾用下面的方法得到直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4556"/>
          <p:cNvSpPr/>
          <p:nvPr/>
        </p:nvSpPr>
        <p:spPr>
          <a:xfrm>
            <a:off x="1992240" y="2133720"/>
            <a:ext cx="484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等距的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一根绳子分成等长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然后以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结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结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结的长度为边长，用木桩钉成一个三角形，其中一个角便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直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对象 64557" descr=""/>
          <p:cNvPicPr/>
          <p:nvPr/>
        </p:nvPicPr>
        <p:blipFill>
          <a:blip r:embed="rId1"/>
          <a:stretch/>
        </p:blipFill>
        <p:spPr>
          <a:xfrm>
            <a:off x="1774800" y="4581360"/>
            <a:ext cx="2065320" cy="1881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63495" descr="h919"/>
          <p:cNvPicPr/>
          <p:nvPr/>
        </p:nvPicPr>
        <p:blipFill>
          <a:blip r:embed="rId2"/>
          <a:stretch/>
        </p:blipFill>
        <p:spPr>
          <a:xfrm>
            <a:off x="10080720" y="81000"/>
            <a:ext cx="2093760" cy="25718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63496" descr="pic_219066"/>
          <p:cNvPicPr/>
          <p:nvPr/>
        </p:nvPicPr>
        <p:blipFill>
          <a:blip r:embed="rId3"/>
          <a:srcRect l="67437" t="32545" r="22079" b="51191"/>
          <a:stretch/>
        </p:blipFill>
        <p:spPr>
          <a:xfrm>
            <a:off x="9983880" y="2835360"/>
            <a:ext cx="1190520" cy="17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文本框 1" descr=""/>
          <p:cNvPicPr/>
          <p:nvPr/>
        </p:nvPicPr>
        <p:blipFill>
          <a:blip r:embed="rId1"/>
          <a:stretch/>
        </p:blipFill>
        <p:spPr>
          <a:xfrm>
            <a:off x="2031840" y="727200"/>
            <a:ext cx="2235240" cy="706320"/>
          </a:xfrm>
          <a:prstGeom prst="rect">
            <a:avLst/>
          </a:prstGeom>
          <a:ln w="0">
            <a:noFill/>
          </a:ln>
        </p:spPr>
      </p:pic>
      <p:pic>
        <p:nvPicPr>
          <p:cNvPr id="160" name="文本框 2" descr=""/>
          <p:cNvPicPr/>
          <p:nvPr/>
        </p:nvPicPr>
        <p:blipFill>
          <a:blip r:embed="rId2"/>
          <a:stretch/>
        </p:blipFill>
        <p:spPr>
          <a:xfrm>
            <a:off x="2368440" y="1924200"/>
            <a:ext cx="8321760" cy="363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615680" y="1267920"/>
            <a:ext cx="811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面的三组数分别是一个三角形的三边长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单位：㎝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7106"/>
          <p:cNvSpPr/>
          <p:nvPr/>
        </p:nvSpPr>
        <p:spPr>
          <a:xfrm>
            <a:off x="3287880" y="2708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2.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6.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；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47114"/>
          <p:cNvGrpSpPr/>
          <p:nvPr/>
        </p:nvGrpSpPr>
        <p:grpSpPr>
          <a:xfrm>
            <a:off x="2819520" y="3684600"/>
            <a:ext cx="7453080" cy="1316520"/>
            <a:chOff x="2819520" y="3684600"/>
            <a:chExt cx="7453080" cy="1316520"/>
          </a:xfrm>
        </p:grpSpPr>
        <p:sp>
          <p:nvSpPr>
            <p:cNvPr id="164" name="文本框 47108"/>
            <p:cNvSpPr/>
            <p:nvPr/>
          </p:nvSpPr>
          <p:spPr>
            <a:xfrm>
              <a:off x="2819520" y="3684600"/>
              <a:ext cx="41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）这三组数都满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对象 47109" descr=""/>
            <p:cNvPicPr/>
            <p:nvPr/>
          </p:nvPicPr>
          <p:blipFill>
            <a:blip r:embed="rId1"/>
            <a:stretch/>
          </p:blipFill>
          <p:spPr>
            <a:xfrm>
              <a:off x="6784920" y="3684600"/>
              <a:ext cx="19681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47110"/>
            <p:cNvSpPr/>
            <p:nvPr/>
          </p:nvSpPr>
          <p:spPr>
            <a:xfrm>
              <a:off x="8686800" y="371016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47111"/>
            <p:cNvSpPr/>
            <p:nvPr/>
          </p:nvSpPr>
          <p:spPr>
            <a:xfrm>
              <a:off x="2819520" y="4419720"/>
              <a:ext cx="74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）画出图形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,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它们都是直角三角形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图片 47112" descr="j0196400"/>
          <p:cNvPicPr/>
          <p:nvPr/>
        </p:nvPicPr>
        <p:blipFill>
          <a:blip r:embed="rId2"/>
          <a:stretch/>
        </p:blipFill>
        <p:spPr>
          <a:xfrm>
            <a:off x="141120" y="2844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469520" y="190080"/>
            <a:ext cx="58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自学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  <a:ea typeface="黑体"/>
              </a:rPr>
              <a:t>P31-32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，完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42800" y="475920"/>
            <a:ext cx="5877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48130"/>
          <p:cNvGrpSpPr/>
          <p:nvPr/>
        </p:nvGrpSpPr>
        <p:grpSpPr>
          <a:xfrm>
            <a:off x="1703520" y="4941720"/>
            <a:ext cx="8971920" cy="1422720"/>
            <a:chOff x="1703520" y="4941720"/>
            <a:chExt cx="8971920" cy="1422720"/>
          </a:xfrm>
        </p:grpSpPr>
        <p:sp>
          <p:nvSpPr>
            <p:cNvPr id="172" name="文本框 48131"/>
            <p:cNvSpPr/>
            <p:nvPr/>
          </p:nvSpPr>
          <p:spPr>
            <a:xfrm>
              <a:off x="1703520" y="4941720"/>
              <a:ext cx="8971920" cy="752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果直角三角形两直角边分别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斜边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那么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48132"/>
            <p:cNvSpPr/>
            <p:nvPr/>
          </p:nvSpPr>
          <p:spPr>
            <a:xfrm>
              <a:off x="5136120" y="5661000"/>
              <a:ext cx="349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圆角矩形 48133"/>
          <p:cNvSpPr/>
          <p:nvPr/>
        </p:nvSpPr>
        <p:spPr>
          <a:xfrm>
            <a:off x="2135160" y="4005360"/>
            <a:ext cx="288144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勾股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48134"/>
          <p:cNvGrpSpPr/>
          <p:nvPr/>
        </p:nvGrpSpPr>
        <p:grpSpPr>
          <a:xfrm>
            <a:off x="1955880" y="1270080"/>
            <a:ext cx="8604000" cy="2191320"/>
            <a:chOff x="1955880" y="1270080"/>
            <a:chExt cx="8604000" cy="2191320"/>
          </a:xfrm>
        </p:grpSpPr>
        <p:sp>
          <p:nvSpPr>
            <p:cNvPr id="176" name="文本框 48135"/>
            <p:cNvSpPr/>
            <p:nvPr/>
          </p:nvSpPr>
          <p:spPr>
            <a:xfrm>
              <a:off x="1955880" y="1270080"/>
              <a:ext cx="8604000" cy="2191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果三角形的三边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那么这个三角形是直角三角形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48136"/>
            <p:cNvSpPr/>
            <p:nvPr/>
          </p:nvSpPr>
          <p:spPr>
            <a:xfrm>
              <a:off x="4654440" y="2125800"/>
              <a:ext cx="3457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上下箭头 48137"/>
          <p:cNvSpPr/>
          <p:nvPr/>
        </p:nvSpPr>
        <p:spPr>
          <a:xfrm>
            <a:off x="5735520" y="3645000"/>
            <a:ext cx="792360" cy="1224000"/>
          </a:xfrm>
          <a:prstGeom prst="upDownArrow">
            <a:avLst>
              <a:gd name="adj1" fmla="val 50000"/>
              <a:gd name="adj2" fmla="val 308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8138"/>
          <p:cNvSpPr/>
          <p:nvPr/>
        </p:nvSpPr>
        <p:spPr>
          <a:xfrm>
            <a:off x="6527880" y="4005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互逆命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71681"/>
          <p:cNvSpPr/>
          <p:nvPr/>
        </p:nvSpPr>
        <p:spPr>
          <a:xfrm>
            <a:off x="3000240" y="4005360"/>
            <a:ext cx="228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 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’=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71682"/>
          <p:cNvSpPr/>
          <p:nvPr/>
        </p:nvSpPr>
        <p:spPr>
          <a:xfrm>
            <a:off x="2928960" y="4414680"/>
            <a:ext cx="2438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71683"/>
          <p:cNvSpPr/>
          <p:nvPr/>
        </p:nvSpPr>
        <p:spPr>
          <a:xfrm>
            <a:off x="2928960" y="4871880"/>
            <a:ext cx="236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71684"/>
          <p:cNvSpPr/>
          <p:nvPr/>
        </p:nvSpPr>
        <p:spPr>
          <a:xfrm>
            <a:off x="2928960" y="5405400"/>
            <a:ext cx="220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71685"/>
          <p:cNvSpPr/>
          <p:nvPr/>
        </p:nvSpPr>
        <p:spPr>
          <a:xfrm>
            <a:off x="2928960" y="6319800"/>
            <a:ext cx="2438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 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1686"/>
          <p:cNvSpPr/>
          <p:nvPr/>
        </p:nvSpPr>
        <p:spPr>
          <a:xfrm>
            <a:off x="2928960" y="5829480"/>
            <a:ext cx="2590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边长取正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1687"/>
          <p:cNvSpPr/>
          <p:nvPr/>
        </p:nvSpPr>
        <p:spPr>
          <a:xfrm>
            <a:off x="6400800" y="4191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 ≌△ A’B’C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71688"/>
          <p:cNvSpPr/>
          <p:nvPr/>
        </p:nvSpPr>
        <p:spPr>
          <a:xfrm>
            <a:off x="6383160" y="4572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= ∠ C’=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71690"/>
          <p:cNvGrpSpPr/>
          <p:nvPr/>
        </p:nvGrpSpPr>
        <p:grpSpPr>
          <a:xfrm>
            <a:off x="6705720" y="2590920"/>
            <a:ext cx="3352320" cy="1572120"/>
            <a:chOff x="6705720" y="2590920"/>
            <a:chExt cx="3352320" cy="1572120"/>
          </a:xfrm>
        </p:grpSpPr>
        <p:sp>
          <p:nvSpPr>
            <p:cNvPr id="189" name="文本框 71691"/>
            <p:cNvSpPr/>
            <p:nvPr/>
          </p:nvSpPr>
          <p:spPr>
            <a:xfrm>
              <a:off x="6939360" y="2590920"/>
              <a:ext cx="31186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C=a=B’C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A=b=C’A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=c=A’B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左大括号 71692"/>
            <p:cNvSpPr/>
            <p:nvPr/>
          </p:nvSpPr>
          <p:spPr>
            <a:xfrm>
              <a:off x="6705720" y="2755080"/>
              <a:ext cx="155520" cy="1069200"/>
            </a:xfrm>
            <a:custGeom>
              <a:avLst/>
              <a:gdLst>
                <a:gd name="textAreaLeft" fmla="*/ 99360 w 155520"/>
                <a:gd name="textAreaRight" fmla="*/ 155520 w 155520"/>
                <a:gd name="textAreaTop" fmla="*/ 27720 h 1069200"/>
                <a:gd name="textAreaBottom" fmla="*/ 1041480 h 106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71709"/>
          <p:cNvSpPr/>
          <p:nvPr/>
        </p:nvSpPr>
        <p:spPr>
          <a:xfrm>
            <a:off x="2135160" y="6206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已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中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B=c  BC=a  CA=b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+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=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1710"/>
          <p:cNvSpPr/>
          <p:nvPr/>
        </p:nvSpPr>
        <p:spPr>
          <a:xfrm>
            <a:off x="2063880" y="1052640"/>
            <a:ext cx="426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求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:△ 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是直角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71711"/>
          <p:cNvSpPr/>
          <p:nvPr/>
        </p:nvSpPr>
        <p:spPr>
          <a:xfrm>
            <a:off x="2063880" y="1413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证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画一个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’B’C’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使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’=90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,B’C’=a,  C’A’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71712"/>
          <p:cNvSpPr/>
          <p:nvPr/>
        </p:nvSpPr>
        <p:spPr>
          <a:xfrm>
            <a:off x="6705720" y="21337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C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71713"/>
          <p:cNvSpPr/>
          <p:nvPr/>
        </p:nvSpPr>
        <p:spPr>
          <a:xfrm>
            <a:off x="6335640" y="5229360"/>
            <a:ext cx="3505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直角三角形（直角三角形的定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1714"/>
          <p:cNvSpPr/>
          <p:nvPr/>
        </p:nvSpPr>
        <p:spPr>
          <a:xfrm>
            <a:off x="2208240" y="0"/>
            <a:ext cx="4724280" cy="685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宋体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角三角形 71716"/>
          <p:cNvSpPr/>
          <p:nvPr/>
        </p:nvSpPr>
        <p:spPr>
          <a:xfrm>
            <a:off x="2279520" y="2133720"/>
            <a:ext cx="863640" cy="1439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71717"/>
          <p:cNvSpPr/>
          <p:nvPr/>
        </p:nvSpPr>
        <p:spPr>
          <a:xfrm>
            <a:off x="1993320" y="1844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71718"/>
          <p:cNvSpPr/>
          <p:nvPr/>
        </p:nvSpPr>
        <p:spPr>
          <a:xfrm>
            <a:off x="1911960" y="3357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71719"/>
          <p:cNvSpPr/>
          <p:nvPr/>
        </p:nvSpPr>
        <p:spPr>
          <a:xfrm>
            <a:off x="3144240" y="335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角三角形 71720"/>
          <p:cNvSpPr/>
          <p:nvPr/>
        </p:nvSpPr>
        <p:spPr>
          <a:xfrm>
            <a:off x="4151160" y="2133720"/>
            <a:ext cx="863640" cy="1439640"/>
          </a:xfrm>
          <a:prstGeom prst="rtTriangl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71736"/>
          <p:cNvGrpSpPr/>
          <p:nvPr/>
        </p:nvGrpSpPr>
        <p:grpSpPr>
          <a:xfrm>
            <a:off x="3793680" y="1844640"/>
            <a:ext cx="573480" cy="551160"/>
            <a:chOff x="3793680" y="1844640"/>
            <a:chExt cx="573480" cy="551160"/>
          </a:xfrm>
        </p:grpSpPr>
        <p:sp>
          <p:nvSpPr>
            <p:cNvPr id="203" name="文本框 71722"/>
            <p:cNvSpPr/>
            <p:nvPr/>
          </p:nvSpPr>
          <p:spPr>
            <a:xfrm>
              <a:off x="3793680" y="1996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71723"/>
            <p:cNvSpPr/>
            <p:nvPr/>
          </p:nvSpPr>
          <p:spPr>
            <a:xfrm>
              <a:off x="3935520" y="1844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71734"/>
          <p:cNvGrpSpPr/>
          <p:nvPr/>
        </p:nvGrpSpPr>
        <p:grpSpPr>
          <a:xfrm>
            <a:off x="5015880" y="3341520"/>
            <a:ext cx="575280" cy="520560"/>
            <a:chOff x="5015880" y="3341520"/>
            <a:chExt cx="575280" cy="520560"/>
          </a:xfrm>
        </p:grpSpPr>
        <p:sp>
          <p:nvSpPr>
            <p:cNvPr id="206" name="文本框 71730"/>
            <p:cNvSpPr/>
            <p:nvPr/>
          </p:nvSpPr>
          <p:spPr>
            <a:xfrm>
              <a:off x="5015880" y="3429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71731"/>
            <p:cNvSpPr/>
            <p:nvPr/>
          </p:nvSpPr>
          <p:spPr>
            <a:xfrm>
              <a:off x="5159520" y="33415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71735"/>
          <p:cNvGrpSpPr/>
          <p:nvPr/>
        </p:nvGrpSpPr>
        <p:grpSpPr>
          <a:xfrm>
            <a:off x="3794760" y="3341520"/>
            <a:ext cx="572400" cy="520560"/>
            <a:chOff x="3794760" y="3341520"/>
            <a:chExt cx="572400" cy="520560"/>
          </a:xfrm>
        </p:grpSpPr>
        <p:sp>
          <p:nvSpPr>
            <p:cNvPr id="209" name="文本框 71732"/>
            <p:cNvSpPr/>
            <p:nvPr/>
          </p:nvSpPr>
          <p:spPr>
            <a:xfrm>
              <a:off x="3794760" y="34369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71733"/>
            <p:cNvSpPr/>
            <p:nvPr/>
          </p:nvSpPr>
          <p:spPr>
            <a:xfrm>
              <a:off x="3935160" y="33415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直接连接符 71740"/>
          <p:cNvSpPr/>
          <p:nvPr/>
        </p:nvSpPr>
        <p:spPr>
          <a:xfrm>
            <a:off x="4151160" y="342900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71742"/>
          <p:cNvSpPr/>
          <p:nvPr/>
        </p:nvSpPr>
        <p:spPr>
          <a:xfrm>
            <a:off x="429408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对象 71743" descr=""/>
          <p:cNvPicPr/>
          <p:nvPr/>
        </p:nvPicPr>
        <p:blipFill>
          <a:blip r:embed="rId1"/>
          <a:stretch/>
        </p:blipFill>
        <p:spPr>
          <a:xfrm>
            <a:off x="4440240" y="3645000"/>
            <a:ext cx="257040" cy="282600"/>
          </a:xfrm>
          <a:prstGeom prst="rect">
            <a:avLst/>
          </a:prstGeom>
          <a:ln w="0">
            <a:noFill/>
          </a:ln>
        </p:spPr>
      </p:pic>
      <p:pic>
        <p:nvPicPr>
          <p:cNvPr id="214" name="对象 71744" descr=""/>
          <p:cNvPicPr/>
          <p:nvPr/>
        </p:nvPicPr>
        <p:blipFill>
          <a:blip r:embed="rId2"/>
          <a:stretch/>
        </p:blipFill>
        <p:spPr>
          <a:xfrm>
            <a:off x="3792600" y="2637000"/>
            <a:ext cx="269640" cy="376200"/>
          </a:xfrm>
          <a:prstGeom prst="rect">
            <a:avLst/>
          </a:prstGeom>
          <a:ln w="0">
            <a:noFill/>
          </a:ln>
        </p:spPr>
      </p:pic>
      <p:sp>
        <p:nvSpPr>
          <p:cNvPr id="215" name="文本框 71746"/>
          <p:cNvSpPr/>
          <p:nvPr/>
        </p:nvSpPr>
        <p:spPr>
          <a:xfrm>
            <a:off x="2475000" y="3952800"/>
            <a:ext cx="309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71747"/>
          <p:cNvSpPr/>
          <p:nvPr/>
        </p:nvSpPr>
        <p:spPr>
          <a:xfrm>
            <a:off x="2084040" y="400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证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对象 71748" descr=""/>
          <p:cNvPicPr/>
          <p:nvPr/>
        </p:nvPicPr>
        <p:blipFill>
          <a:blip r:embed="rId3"/>
          <a:stretch/>
        </p:blipFill>
        <p:spPr>
          <a:xfrm>
            <a:off x="2495520" y="3645000"/>
            <a:ext cx="257040" cy="282600"/>
          </a:xfrm>
          <a:prstGeom prst="rect">
            <a:avLst/>
          </a:prstGeom>
          <a:ln w="0">
            <a:noFill/>
          </a:ln>
        </p:spPr>
      </p:pic>
      <p:pic>
        <p:nvPicPr>
          <p:cNvPr id="218" name="对象 71749" descr=""/>
          <p:cNvPicPr/>
          <p:nvPr/>
        </p:nvPicPr>
        <p:blipFill>
          <a:blip r:embed="rId4"/>
          <a:stretch/>
        </p:blipFill>
        <p:spPr>
          <a:xfrm>
            <a:off x="1992240" y="2565360"/>
            <a:ext cx="270000" cy="376200"/>
          </a:xfrm>
          <a:prstGeom prst="rect">
            <a:avLst/>
          </a:prstGeom>
          <a:ln w="0">
            <a:noFill/>
          </a:ln>
        </p:spPr>
      </p:pic>
      <p:pic>
        <p:nvPicPr>
          <p:cNvPr id="219" name="对象 71750" descr=""/>
          <p:cNvPicPr/>
          <p:nvPr/>
        </p:nvPicPr>
        <p:blipFill>
          <a:blip r:embed="rId5"/>
          <a:stretch/>
        </p:blipFill>
        <p:spPr>
          <a:xfrm>
            <a:off x="2855880" y="2565360"/>
            <a:ext cx="291960" cy="357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8120" y="-360"/>
            <a:ext cx="5876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72706"/>
          <p:cNvGrpSpPr/>
          <p:nvPr/>
        </p:nvGrpSpPr>
        <p:grpSpPr>
          <a:xfrm>
            <a:off x="1703520" y="4941720"/>
            <a:ext cx="8971920" cy="1422720"/>
            <a:chOff x="1703520" y="4941720"/>
            <a:chExt cx="8971920" cy="1422720"/>
          </a:xfrm>
        </p:grpSpPr>
        <p:sp>
          <p:nvSpPr>
            <p:cNvPr id="222" name="文本框 72707"/>
            <p:cNvSpPr/>
            <p:nvPr/>
          </p:nvSpPr>
          <p:spPr>
            <a:xfrm>
              <a:off x="1703520" y="4941720"/>
              <a:ext cx="8971920" cy="752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果直角三角形两直角边分别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斜边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那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72708"/>
            <p:cNvSpPr/>
            <p:nvPr/>
          </p:nvSpPr>
          <p:spPr>
            <a:xfrm>
              <a:off x="5136120" y="5661000"/>
              <a:ext cx="349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圆角矩形 72709"/>
          <p:cNvSpPr/>
          <p:nvPr/>
        </p:nvSpPr>
        <p:spPr>
          <a:xfrm>
            <a:off x="1847880" y="4005360"/>
            <a:ext cx="302400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勾股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72710"/>
          <p:cNvGrpSpPr/>
          <p:nvPr/>
        </p:nvGrpSpPr>
        <p:grpSpPr>
          <a:xfrm>
            <a:off x="2063880" y="762120"/>
            <a:ext cx="8604000" cy="2191320"/>
            <a:chOff x="2063880" y="762120"/>
            <a:chExt cx="8604000" cy="2191320"/>
          </a:xfrm>
        </p:grpSpPr>
        <p:sp>
          <p:nvSpPr>
            <p:cNvPr id="226" name="文本框 72711"/>
            <p:cNvSpPr/>
            <p:nvPr/>
          </p:nvSpPr>
          <p:spPr>
            <a:xfrm>
              <a:off x="2063880" y="762120"/>
              <a:ext cx="8604000" cy="2191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果三角形的三边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那么这个三角形是直角三角形。且边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所对的角为直角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72712"/>
            <p:cNvSpPr/>
            <p:nvPr/>
          </p:nvSpPr>
          <p:spPr>
            <a:xfrm>
              <a:off x="4762440" y="1617480"/>
              <a:ext cx="3457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上下箭头 72713"/>
          <p:cNvSpPr/>
          <p:nvPr/>
        </p:nvSpPr>
        <p:spPr>
          <a:xfrm>
            <a:off x="5735520" y="3645000"/>
            <a:ext cx="792360" cy="1224000"/>
          </a:xfrm>
          <a:prstGeom prst="upDownArrow">
            <a:avLst>
              <a:gd name="adj1" fmla="val 50000"/>
              <a:gd name="adj2" fmla="val 308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72714"/>
          <p:cNvSpPr/>
          <p:nvPr/>
        </p:nvSpPr>
        <p:spPr>
          <a:xfrm>
            <a:off x="6383160" y="3860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互逆命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72715" descr="j0187423"/>
          <p:cNvPicPr/>
          <p:nvPr/>
        </p:nvPicPr>
        <p:blipFill>
          <a:blip r:embed="rId1"/>
          <a:stretch/>
        </p:blipFill>
        <p:spPr>
          <a:xfrm>
            <a:off x="1523880" y="0"/>
            <a:ext cx="1403640" cy="1197000"/>
          </a:xfrm>
          <a:prstGeom prst="rect">
            <a:avLst/>
          </a:prstGeom>
          <a:ln w="0">
            <a:noFill/>
          </a:ln>
        </p:spPr>
      </p:pic>
      <p:sp>
        <p:nvSpPr>
          <p:cNvPr id="231" name="矩形 72716"/>
          <p:cNvSpPr/>
          <p:nvPr/>
        </p:nvSpPr>
        <p:spPr>
          <a:xfrm>
            <a:off x="6553080" y="0"/>
            <a:ext cx="199080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逆定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2717"/>
          <p:cNvSpPr/>
          <p:nvPr/>
        </p:nvSpPr>
        <p:spPr>
          <a:xfrm>
            <a:off x="7391520" y="3789360"/>
            <a:ext cx="158436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定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73729"/>
          <p:cNvGrpSpPr/>
          <p:nvPr/>
        </p:nvGrpSpPr>
        <p:grpSpPr>
          <a:xfrm>
            <a:off x="8305920" y="4572000"/>
            <a:ext cx="2361960" cy="1835280"/>
            <a:chOff x="8305920" y="4572000"/>
            <a:chExt cx="2361960" cy="1835280"/>
          </a:xfrm>
        </p:grpSpPr>
        <p:pic>
          <p:nvPicPr>
            <p:cNvPr id="234" name="图片 73730" descr="20"/>
            <p:cNvPicPr/>
            <p:nvPr/>
          </p:nvPicPr>
          <p:blipFill>
            <a:blip r:embed="rId1"/>
            <a:stretch/>
          </p:blipFill>
          <p:spPr>
            <a:xfrm>
              <a:off x="8305920" y="4572000"/>
              <a:ext cx="236196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文本框 73731"/>
            <p:cNvSpPr/>
            <p:nvPr/>
          </p:nvSpPr>
          <p:spPr>
            <a:xfrm>
              <a:off x="8762760" y="530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67160" y="-36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定理与逆定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73738"/>
          <p:cNvSpPr/>
          <p:nvPr/>
        </p:nvSpPr>
        <p:spPr>
          <a:xfrm>
            <a:off x="1725480" y="2852640"/>
            <a:ext cx="8763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已经学习了一些互逆的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勾股定理及其逆定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两直线平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错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错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两直线平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73740"/>
          <p:cNvSpPr/>
          <p:nvPr/>
        </p:nvSpPr>
        <p:spPr>
          <a:xfrm>
            <a:off x="1774800" y="98100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逆命题经过证明是真命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它是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两个定理称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一个定理称另一个定理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逆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23:15:35Z</dcterms:created>
  <dc:creator>优思数学网www.yousee123.com收集整理</dc:creator>
  <dc:description>www.yousee123.com</dc:description>
  <cp:keywords>www.yousee123.com</cp:keywords>
  <dc:language>en-US</dc:language>
  <cp:lastModifiedBy>Administrator</cp:lastModifiedBy>
  <dcterms:modified xsi:type="dcterms:W3CDTF">2018-03-19T06:26:46Z</dcterms:modified>
  <cp:revision>117</cp:revision>
  <dc:subject>　</dc:subject>
  <dc:title>www.yousee123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